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0.wmf" ContentType="image/x-wmf"/>
  <Override PartName="/ppt/media/image2.png" ContentType="image/png"/>
  <Override PartName="/ppt/media/image13.wmf" ContentType="image/x-wmf"/>
  <Override PartName="/ppt/media/image5.png" ContentType="image/png"/>
  <Override PartName="/ppt/media/image19.png" ContentType="image/png"/>
  <Override PartName="/ppt/media/image18.png" ContentType="image/png"/>
  <Override PartName="/ppt/media/image16.jpeg" ContentType="image/jpeg"/>
  <Override PartName="/ppt/media/image7.gif" ContentType="image/gif"/>
  <Override PartName="/ppt/media/image15.png" ContentType="image/png"/>
  <Override PartName="/ppt/media/image14.wmf" ContentType="image/x-wmf"/>
  <Override PartName="/ppt/media/image1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media/image17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187B-E470-4CFF-BF39-6E43D6A3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1797-BCB9-47F1-B42C-B205E0B1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B098-BCE7-4D5B-93D6-47722F30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2DC3-DA64-4692-958F-40B57C4E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0625-7A30-4A70-962B-AA2C7798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DAC5-6D0F-43FD-BE20-5CACDAD0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4A57-628A-4931-B873-07FA861D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6493-BDEC-449F-8965-E6B7EE11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AC2C-0C5E-438C-AB7B-AF4A71EC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DAA9-B483-4626-A80D-DC253442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4859-087A-4532-BAA0-18141944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18A5-7917-4559-BD83-C184F34F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3878-0F47-4ECD-911D-A10803F4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C0C2-3BA4-4C79-A277-DF97F793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212D-BBE4-49EB-B89F-E5021EF9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CCC1-AD05-480B-AE28-804EB862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249D-1D52-475F-A8BA-E6416540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680B-4AD9-4333-8E29-A4435BE9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7C6A-8934-4844-AC13-2C109822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E409-360A-4ADD-80BB-D0ACEBE5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942D-FF33-411F-8537-D60DA8DE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4187-8054-49EA-86C8-49CEC664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90AF-337F-4758-BA58-EBCB86BF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2D2C-AC48-40C0-B42C-13212024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F6A8-3DEE-4D70-B7D3-6D6AEE2D872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47EB-B608-48DD-909B-6C4895AD2BC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gif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539640" y="111240"/>
            <a:ext cx="8064360" cy="1421280"/>
            <a:chOff x="539640" y="111240"/>
            <a:chExt cx="8064360" cy="1421280"/>
          </a:xfrm>
        </p:grpSpPr>
        <p:grpSp>
          <p:nvGrpSpPr>
            <p:cNvPr id="82" name=""/>
            <p:cNvGrpSpPr/>
            <p:nvPr/>
          </p:nvGrpSpPr>
          <p:grpSpPr>
            <a:xfrm>
              <a:off x="539640" y="111240"/>
              <a:ext cx="1295640" cy="1421280"/>
              <a:chOff x="539640" y="111240"/>
              <a:chExt cx="1295640" cy="1421280"/>
            </a:xfrm>
          </p:grpSpPr>
          <p:sp>
            <p:nvSpPr>
              <p:cNvPr id="83" name=""/>
              <p:cNvSpPr/>
              <p:nvPr/>
            </p:nvSpPr>
            <p:spPr>
              <a:xfrm>
                <a:off x="644400" y="111240"/>
                <a:ext cx="1081080" cy="105228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8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44480" y="204840"/>
                <a:ext cx="885960" cy="82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539640" y="1133640"/>
                <a:ext cx="129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CADAF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2844720" y="111240"/>
              <a:ext cx="1295280" cy="1421280"/>
              <a:chOff x="2844720" y="111240"/>
              <a:chExt cx="1295280" cy="1421280"/>
            </a:xfrm>
          </p:grpSpPr>
          <p:sp>
            <p:nvSpPr>
              <p:cNvPr id="87" name=""/>
              <p:cNvSpPr/>
              <p:nvPr/>
            </p:nvSpPr>
            <p:spPr>
              <a:xfrm>
                <a:off x="2914560" y="111240"/>
                <a:ext cx="1081080" cy="105228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8" name=""/>
              <p:cNvGrpSpPr/>
              <p:nvPr/>
            </p:nvGrpSpPr>
            <p:grpSpPr>
              <a:xfrm>
                <a:off x="2844720" y="204840"/>
                <a:ext cx="1295280" cy="1327680"/>
                <a:chOff x="2844720" y="204840"/>
                <a:chExt cx="1295280" cy="1327680"/>
              </a:xfrm>
            </p:grpSpPr>
            <p:pic>
              <p:nvPicPr>
                <p:cNvPr id="8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84120" y="204840"/>
                  <a:ext cx="814320" cy="82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" name=""/>
                <p:cNvSpPr/>
                <p:nvPr/>
              </p:nvSpPr>
              <p:spPr>
                <a:xfrm>
                  <a:off x="2844720" y="113364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ffffff"/>
                      </a:solidFill>
                      <a:latin typeface="Times New Roman"/>
                    </a:rPr>
                    <a:t>EDELCA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" name=""/>
            <p:cNvGrpSpPr/>
            <p:nvPr/>
          </p:nvGrpSpPr>
          <p:grpSpPr>
            <a:xfrm>
              <a:off x="5005440" y="111240"/>
              <a:ext cx="1295280" cy="1421280"/>
              <a:chOff x="5005440" y="111240"/>
              <a:chExt cx="1295280" cy="1421280"/>
            </a:xfrm>
          </p:grpSpPr>
          <p:sp>
            <p:nvSpPr>
              <p:cNvPr id="92" name=""/>
              <p:cNvSpPr/>
              <p:nvPr/>
            </p:nvSpPr>
            <p:spPr>
              <a:xfrm>
                <a:off x="5102280" y="111240"/>
                <a:ext cx="1081080" cy="105228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5005440" y="204840"/>
                <a:ext cx="1295280" cy="1327680"/>
                <a:chOff x="5005440" y="204840"/>
                <a:chExt cx="1295280" cy="1327680"/>
              </a:xfrm>
            </p:grpSpPr>
            <p:pic>
              <p:nvPicPr>
                <p:cNvPr id="9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221440" y="204840"/>
                  <a:ext cx="865080" cy="81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>
                  <a:off x="5005440" y="113364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ffffff"/>
                      </a:solidFill>
                      <a:latin typeface="Times New Roman"/>
                    </a:rPr>
                    <a:t>E. DE C.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6" name=""/>
            <p:cNvGrpSpPr/>
            <p:nvPr/>
          </p:nvGrpSpPr>
          <p:grpSpPr>
            <a:xfrm>
              <a:off x="7156440" y="117360"/>
              <a:ext cx="1447560" cy="1414800"/>
              <a:chOff x="7156440" y="117360"/>
              <a:chExt cx="1447560" cy="1414800"/>
            </a:xfrm>
          </p:grpSpPr>
          <p:sp>
            <p:nvSpPr>
              <p:cNvPr id="97" name=""/>
              <p:cNvSpPr/>
              <p:nvPr/>
            </p:nvSpPr>
            <p:spPr>
              <a:xfrm>
                <a:off x="7308720" y="117360"/>
                <a:ext cx="1081080" cy="105264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7156440" y="204840"/>
                <a:ext cx="1447560" cy="1327320"/>
                <a:chOff x="7156440" y="204840"/>
                <a:chExt cx="1447560" cy="13273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7156440" y="113328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ffffff"/>
                      </a:solidFill>
                      <a:latin typeface="Times New Roman"/>
                    </a:rPr>
                    <a:t>ENELVE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0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384680" y="204840"/>
                  <a:ext cx="85716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1" name=""/>
          <p:cNvSpPr/>
          <p:nvPr/>
        </p:nvSpPr>
        <p:spPr>
          <a:xfrm>
            <a:off x="17640" y="1628640"/>
            <a:ext cx="9144000" cy="764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Arial Black"/>
              </a:rPr>
              <a:t>SISTEMA ELÉCTRICO NACION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04000" y="5911920"/>
            <a:ext cx="21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Julio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3924360" y="5084640"/>
            <a:ext cx="1305000" cy="1702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620800" y="56610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COMITÉ EJECUTIV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360" y="3141720"/>
            <a:ext cx="9144000" cy="19821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3366"/>
                </a:solidFill>
                <a:latin typeface="Arial Black"/>
              </a:rPr>
              <a:t>DIAGNÓ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3366"/>
                </a:solidFill>
                <a:latin typeface="Arial Black"/>
              </a:rPr>
              <a:t>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3366"/>
                </a:solidFill>
                <a:latin typeface="Arial Black"/>
              </a:rPr>
              <a:t>PLAN DE AC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-25560" y="-27000"/>
            <a:ext cx="913464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IMPACTOS  SOCIOECONÓMIC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684360" y="705960"/>
            <a:ext cx="7704000" cy="1700280"/>
            <a:chOff x="684360" y="705960"/>
            <a:chExt cx="7704000" cy="1700280"/>
          </a:xfrm>
        </p:grpSpPr>
        <p:sp>
          <p:nvSpPr>
            <p:cNvPr id="264" name=""/>
            <p:cNvSpPr/>
            <p:nvPr/>
          </p:nvSpPr>
          <p:spPr>
            <a:xfrm>
              <a:off x="1476360" y="705960"/>
              <a:ext cx="6191280" cy="33732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80808"/>
                  </a:solidFill>
                  <a:latin typeface="Tahoma"/>
                </a:rPr>
                <a:t>CORTE A SERVICIOS BÀSICOS</a:t>
              </a:r>
              <a:r>
                <a:rPr b="0" lang="es-ES_tradnl" sz="12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4360" y="1095480"/>
              <a:ext cx="7704000" cy="1310760"/>
            </a:xfrm>
            <a:prstGeom prst="rect">
              <a:avLst/>
            </a:prstGeom>
            <a:solidFill>
              <a:srgbClr val="2b5481"/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AGUA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(EMPRESAS HIDROS)     </a:t>
              </a:r>
              <a:r>
                <a:rPr b="1" lang="es-ES_tradnl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SALUD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(HOSPITALES Y CLÌNICAS FARMACIAS Y AMBULATORIO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EDUCACIÓN 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(ESCUELAS, LICEOS Y UNIVERSIDADES)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s-ES_tradnl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TRANSPOR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(AEROPUERTOS NACIONALES)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                                        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2 A 12 HORAS DIARI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84360" y="2974320"/>
            <a:ext cx="7775280" cy="1448280"/>
            <a:chOff x="684360" y="2974320"/>
            <a:chExt cx="7775280" cy="1448280"/>
          </a:xfrm>
        </p:grpSpPr>
        <p:sp>
          <p:nvSpPr>
            <p:cNvPr id="267" name=""/>
            <p:cNvSpPr/>
            <p:nvPr/>
          </p:nvSpPr>
          <p:spPr>
            <a:xfrm>
              <a:off x="1403280" y="2974320"/>
              <a:ext cx="6191280" cy="33732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80808"/>
                  </a:solidFill>
                  <a:latin typeface="Tahoma"/>
                </a:rPr>
                <a:t>CORTES AL COMERCI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4360" y="3355200"/>
              <a:ext cx="7775280" cy="1067400"/>
            </a:xfrm>
            <a:prstGeom prst="rect">
              <a:avLst/>
            </a:prstGeom>
            <a:solidFill>
              <a:srgbClr val="2b5481"/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TIENDAS, ABASTOS, MERCADOS PÙBLICOS, BANCA COMERCIAL, ESTACIONES DE GASOLINA, CENTROS COMERCIALES Y EMPRESARIALES, HOTELES Y CENTROS TURÌSTIC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 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12 HORAS DIARI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84360" y="4992120"/>
            <a:ext cx="7848360" cy="1447200"/>
            <a:chOff x="684360" y="4992120"/>
            <a:chExt cx="7848360" cy="1447200"/>
          </a:xfrm>
        </p:grpSpPr>
        <p:sp>
          <p:nvSpPr>
            <p:cNvPr id="270" name=""/>
            <p:cNvSpPr/>
            <p:nvPr/>
          </p:nvSpPr>
          <p:spPr>
            <a:xfrm>
              <a:off x="1403280" y="4992120"/>
              <a:ext cx="6191280" cy="33732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80808"/>
                  </a:solidFill>
                  <a:latin typeface="Tahoma"/>
                </a:rPr>
                <a:t>CORTES A DEPENDENCIAS OFICIAL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4360" y="5371920"/>
              <a:ext cx="7848360" cy="1067400"/>
            </a:xfrm>
            <a:prstGeom prst="rect">
              <a:avLst/>
            </a:prstGeom>
            <a:solidFill>
              <a:srgbClr val="2b5481"/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MINISTERIOS, GOBERNACIONES, ALCALDÍAS, NOTARÌAS, REGISTROS Y TRIBUNALES, EMBAJADAS Y CONSULADOS, INSTALACIONES MILITARES, ESTACIONES DE POLICIA ,ESTACIONES DE BOMBEROS, CÀRCELES, ETC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 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12 HORAS DIARI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-25560" y="-27000"/>
            <a:ext cx="913464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IMPACTOS  SOCIOECONÓMIC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84360" y="1066320"/>
            <a:ext cx="7848360" cy="1196640"/>
            <a:chOff x="684360" y="1066320"/>
            <a:chExt cx="7848360" cy="1196640"/>
          </a:xfrm>
        </p:grpSpPr>
        <p:sp>
          <p:nvSpPr>
            <p:cNvPr id="274" name=""/>
            <p:cNvSpPr/>
            <p:nvPr/>
          </p:nvSpPr>
          <p:spPr>
            <a:xfrm>
              <a:off x="1476360" y="1066320"/>
              <a:ext cx="6191280" cy="33732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80808"/>
                  </a:solidFill>
                  <a:latin typeface="Tahoma"/>
                </a:rPr>
                <a:t>CORTES AL SECTOR  INDUSTRI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4360" y="1438920"/>
              <a:ext cx="7848360" cy="824040"/>
            </a:xfrm>
            <a:prstGeom prst="rect">
              <a:avLst/>
            </a:prstGeom>
            <a:solidFill>
              <a:srgbClr val="2b5481"/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SECTOR PETROLERO, INDUSTRIA SIDERÚRGICA Y DEL ALUMINO, INDUSTRIA AUTOMOTRIZ, PEQUEÑA Y MEDIANA INDUST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4 A 12 HORAS DIARI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720720" y="3103200"/>
            <a:ext cx="7705800" cy="960480"/>
            <a:chOff x="720720" y="3103200"/>
            <a:chExt cx="7705800" cy="960480"/>
          </a:xfrm>
        </p:grpSpPr>
        <p:sp>
          <p:nvSpPr>
            <p:cNvPr id="277" name=""/>
            <p:cNvSpPr/>
            <p:nvPr/>
          </p:nvSpPr>
          <p:spPr>
            <a:xfrm>
              <a:off x="1403280" y="3103200"/>
              <a:ext cx="6191280" cy="33732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80808"/>
                  </a:solidFill>
                  <a:latin typeface="Tahoma"/>
                </a:rPr>
                <a:t>CORTES A MEDIOS DE COMUNICA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0720" y="3483000"/>
              <a:ext cx="7705800" cy="580680"/>
            </a:xfrm>
            <a:prstGeom prst="rect">
              <a:avLst/>
            </a:prstGeom>
            <a:solidFill>
              <a:srgbClr val="2b5481"/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PRENSA, RADIO, TELEVISORAS Y SISTEMAS DE TELECOMUNICA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                                           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8 A 10 HORAS DIARI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403280" y="5120640"/>
            <a:ext cx="6191280" cy="337320"/>
          </a:xfrm>
          <a:prstGeom prst="rect">
            <a:avLst/>
          </a:prstGeom>
          <a:solidFill>
            <a:srgbClr val="ff9900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80808"/>
                </a:solidFill>
                <a:latin typeface="Tahoma"/>
              </a:rPr>
              <a:t>CORTES A SECTORES RESIDENCI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5640" y="5499360"/>
            <a:ext cx="7705800" cy="580680"/>
          </a:xfrm>
          <a:prstGeom prst="rect">
            <a:avLst/>
          </a:prstGeom>
          <a:solidFill>
            <a:srgbClr val="2b5481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URBANIZACIONES Y BARRIOS POPULA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12 HORAS DIA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7583400"/>
            <a:ext cx="1015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-25560" y="44280"/>
            <a:ext cx="913464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AC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rcRect l="6506" t="41547" r="5692" b="20394"/>
          <a:stretch/>
        </p:blipFill>
        <p:spPr>
          <a:xfrm>
            <a:off x="0" y="2276640"/>
            <a:ext cx="9144000" cy="27349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0" y="5173560"/>
            <a:ext cx="5003640" cy="1063800"/>
          </a:xfrm>
          <a:prstGeom prst="rightArrow">
            <a:avLst>
              <a:gd name="adj1" fmla="val 50000"/>
              <a:gd name="adj2" fmla="val 11758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981000"/>
            <a:ext cx="5003640" cy="1069920"/>
          </a:xfrm>
          <a:prstGeom prst="rightArrow">
            <a:avLst>
              <a:gd name="adj1" fmla="val 50000"/>
              <a:gd name="adj2" fmla="val 11691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03640" y="5126040"/>
            <a:ext cx="4140360" cy="111960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18576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AHORRO VOLUNTA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18576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AHORRO INDUCID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18576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RACION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03640" y="846000"/>
            <a:ext cx="4140360" cy="111960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18576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MEJORAR PLANTAS ACTU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18576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INSTALAR NUEVA GEN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18576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COMPRAS DE ENERGÍ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0120" y="5447880"/>
            <a:ext cx="265716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DISMINUIR CARGA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400" y="1253520"/>
            <a:ext cx="479376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AUMENTAR GENERACIÓN TÉRMICA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7583400"/>
            <a:ext cx="1015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-25560" y="44280"/>
            <a:ext cx="913464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MEDIDAS ADOPTADAS AÑO 200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765000"/>
            <a:ext cx="9144000" cy="792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4120" indent="-38412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b5481"/>
              </a:buClr>
              <a:buSzPct val="6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111111"/>
                </a:solidFill>
                <a:latin typeface="Tahoma"/>
              </a:rPr>
              <a:t>INCREMENTAR AL MÁXIMO GENERACIÓN TÉRMICA DISPONIBLE</a:t>
            </a:r>
            <a:r>
              <a:rPr b="1" lang="es-ES_tradnl" sz="2800" spc="-1" strike="noStrike">
                <a:solidFill>
                  <a:srgbClr val="111111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4920" y="1773360"/>
            <a:ext cx="9144000" cy="7920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4120" indent="-38412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b5481"/>
              </a:buClr>
              <a:buSzPct val="6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111111"/>
                </a:solidFill>
                <a:latin typeface="Tahoma"/>
              </a:rPr>
              <a:t>COMPRAS DE ENERGÍA TÉRMICA A GENERADORES PRIVADOS (E. DE C., GENEVAPCA, TURBOVEN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b5481"/>
              </a:buClr>
              <a:buSzPct val="6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920" y="2781360"/>
            <a:ext cx="9144000" cy="7920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4120" indent="-38412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b5481"/>
              </a:buClr>
              <a:buSzPct val="6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111111"/>
                </a:solidFill>
                <a:latin typeface="Tahoma"/>
              </a:rPr>
              <a:t>MODIFICACIÓN DE CONTRATOS DE VENTA DE ENERGÍA A SENECA Y ELEV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b5481"/>
              </a:buClr>
              <a:buSzPct val="6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920" y="3789360"/>
            <a:ext cx="9144000" cy="7920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4120" indent="-38412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b5481"/>
              </a:buClr>
              <a:buSzPct val="6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111111"/>
                </a:solidFill>
                <a:latin typeface="Tahoma"/>
              </a:rPr>
              <a:t>COMPRA DE ENERGÍA A TRAVÉS DE INTERCONEXIONES CON COLOMB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b5481"/>
              </a:buClr>
              <a:buSzPct val="6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920" y="4797360"/>
            <a:ext cx="9144000" cy="792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4120" indent="-38412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b5481"/>
              </a:buClr>
              <a:buSzPct val="6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111111"/>
                </a:solidFill>
                <a:latin typeface="Tahoma"/>
              </a:rPr>
              <a:t>DECRETO PARA LA REDUCCIÓN DE TENSIÓN (5%) A NIVEL DE DISTRIB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b5481"/>
              </a:buClr>
              <a:buSzPct val="6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920" y="5805360"/>
            <a:ext cx="9144000" cy="792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4120" indent="-38412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b5481"/>
              </a:buClr>
              <a:buSzPct val="6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111111"/>
                </a:solidFill>
                <a:latin typeface="Tahoma"/>
              </a:rPr>
              <a:t>CAMPAÑA COMUNICACIONAL PARA LA RACIONALIZACIÓN DEL CONSU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b5481"/>
              </a:buClr>
              <a:buSzPct val="65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7583400"/>
            <a:ext cx="1015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-25560" y="333360"/>
            <a:ext cx="913464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OPCIONES PARA CUBRIR DÉFICIT</a:t>
            </a:r>
            <a:br>
              <a:rPr sz="3600"/>
            </a:b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CORTO PLAZO (2002 – 200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16720" y="3213000"/>
            <a:ext cx="1771560" cy="1571760"/>
          </a:xfrm>
          <a:custGeom>
            <a:avLst/>
            <a:gdLst>
              <a:gd name="textAreaLeft" fmla="*/ 276840 w 1771560"/>
              <a:gd name="textAreaRight" fmla="*/ 1550160 w 1771560"/>
              <a:gd name="textAreaTop" fmla="*/ 392760 h 1571760"/>
              <a:gd name="textAreaBottom" fmla="*/ 1179000 h 157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>
            <a:hlinkClick r:id="rId2" action="ppaction://hlinksldjump"/>
          </p:cNvPr>
          <p:cNvSpPr/>
          <p:nvPr/>
        </p:nvSpPr>
        <p:spPr>
          <a:xfrm>
            <a:off x="6837480" y="369036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80808"/>
                </a:solidFill>
                <a:latin typeface="Arial"/>
              </a:rPr>
              <a:t>664 MMUS$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05000" y="2708280"/>
            <a:ext cx="4383000" cy="8352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ee6e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305000" y="5349960"/>
            <a:ext cx="4381920" cy="763560"/>
            <a:chOff x="1305000" y="5349960"/>
            <a:chExt cx="4381920" cy="763560"/>
          </a:xfrm>
        </p:grpSpPr>
        <p:sp>
          <p:nvSpPr>
            <p:cNvPr id="304" name=""/>
            <p:cNvSpPr/>
            <p:nvPr/>
          </p:nvSpPr>
          <p:spPr>
            <a:xfrm>
              <a:off x="1305000" y="5349960"/>
              <a:ext cx="53640" cy="763560"/>
            </a:xfrm>
            <a:prstGeom prst="rect">
              <a:avLst/>
            </a:prstGeom>
            <a:solidFill>
              <a:srgbClr val="ffc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58640" y="5349960"/>
              <a:ext cx="27720" cy="763560"/>
            </a:xfrm>
            <a:prstGeom prst="rect">
              <a:avLst/>
            </a:prstGeom>
            <a:solidFill>
              <a:srgbClr val="ffc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86720" y="5349960"/>
              <a:ext cx="58680" cy="763560"/>
            </a:xfrm>
            <a:prstGeom prst="rect">
              <a:avLst/>
            </a:prstGeom>
            <a:solidFill>
              <a:srgbClr val="ffc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45760" y="5349960"/>
              <a:ext cx="27720" cy="763560"/>
            </a:xfrm>
            <a:prstGeom prst="rect">
              <a:avLst/>
            </a:prstGeom>
            <a:solidFill>
              <a:srgbClr val="ffc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73480" y="5349960"/>
              <a:ext cx="58680" cy="763560"/>
            </a:xfrm>
            <a:prstGeom prst="rect">
              <a:avLst/>
            </a:prstGeom>
            <a:solidFill>
              <a:srgbClr val="ffcc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32520" y="5349960"/>
              <a:ext cx="54720" cy="763560"/>
            </a:xfrm>
            <a:prstGeom prst="rect">
              <a:avLst/>
            </a:prstGeom>
            <a:solidFill>
              <a:srgbClr val="ffcd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87600" y="5349960"/>
              <a:ext cx="26640" cy="763560"/>
            </a:xfrm>
            <a:prstGeom prst="rect">
              <a:avLst/>
            </a:prstGeom>
            <a:solidFill>
              <a:srgbClr val="ffc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14240" y="5349960"/>
              <a:ext cx="59760" cy="763560"/>
            </a:xfrm>
            <a:prstGeom prst="rect">
              <a:avLst/>
            </a:prstGeom>
            <a:solidFill>
              <a:srgbClr val="ffc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74360" y="5349960"/>
              <a:ext cx="26640" cy="763560"/>
            </a:xfrm>
            <a:prstGeom prst="rect">
              <a:avLst/>
            </a:prstGeom>
            <a:solidFill>
              <a:srgbClr val="ffcd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01360" y="5349960"/>
              <a:ext cx="54720" cy="763560"/>
            </a:xfrm>
            <a:prstGeom prst="rect">
              <a:avLst/>
            </a:prstGeom>
            <a:solidFill>
              <a:srgbClr val="ffc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56080" y="5349960"/>
              <a:ext cx="58680" cy="763560"/>
            </a:xfrm>
            <a:prstGeom prst="rect">
              <a:avLst/>
            </a:prstGeom>
            <a:solidFill>
              <a:srgbClr val="ffc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15120" y="5349960"/>
              <a:ext cx="27720" cy="763560"/>
            </a:xfrm>
            <a:prstGeom prst="rect">
              <a:avLst/>
            </a:prstGeom>
            <a:solidFill>
              <a:srgbClr val="ffc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843200" y="5349960"/>
              <a:ext cx="58680" cy="763560"/>
            </a:xfrm>
            <a:prstGeom prst="rect">
              <a:avLst/>
            </a:prstGeom>
            <a:solidFill>
              <a:srgbClr val="ffc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902240" y="5349960"/>
              <a:ext cx="27720" cy="763560"/>
            </a:xfrm>
            <a:prstGeom prst="rect">
              <a:avLst/>
            </a:prstGeom>
            <a:solidFill>
              <a:srgbClr val="ffd0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29960" y="5349960"/>
              <a:ext cx="54720" cy="763560"/>
            </a:xfrm>
            <a:prstGeom prst="rect">
              <a:avLst/>
            </a:prstGeom>
            <a:solidFill>
              <a:srgbClr val="ffd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985040" y="5349960"/>
              <a:ext cx="58680" cy="763560"/>
            </a:xfrm>
            <a:prstGeom prst="rect">
              <a:avLst/>
            </a:prstGeom>
            <a:solidFill>
              <a:srgbClr val="ffd1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44080" y="5349960"/>
              <a:ext cx="26640" cy="763560"/>
            </a:xfrm>
            <a:prstGeom prst="rect">
              <a:avLst/>
            </a:prstGeom>
            <a:solidFill>
              <a:srgbClr val="ffd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71080" y="5349960"/>
              <a:ext cx="54720" cy="763560"/>
            </a:xfrm>
            <a:prstGeom prst="rect">
              <a:avLst/>
            </a:prstGeom>
            <a:solidFill>
              <a:srgbClr val="ffd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125800" y="5349960"/>
              <a:ext cx="32040" cy="763560"/>
            </a:xfrm>
            <a:prstGeom prst="rect">
              <a:avLst/>
            </a:prstGeom>
            <a:solidFill>
              <a:srgbClr val="ffd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157840" y="5349960"/>
              <a:ext cx="54720" cy="763560"/>
            </a:xfrm>
            <a:prstGeom prst="rect">
              <a:avLst/>
            </a:prstGeom>
            <a:solidFill>
              <a:srgbClr val="ffd4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12920" y="5349960"/>
              <a:ext cx="58680" cy="763560"/>
            </a:xfrm>
            <a:prstGeom prst="rect">
              <a:avLst/>
            </a:prstGeom>
            <a:solidFill>
              <a:srgbClr val="ffd5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71600" y="5349960"/>
              <a:ext cx="27720" cy="763560"/>
            </a:xfrm>
            <a:prstGeom prst="rect">
              <a:avLst/>
            </a:prstGeom>
            <a:solidFill>
              <a:srgbClr val="ffd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99680" y="5349960"/>
              <a:ext cx="54720" cy="763560"/>
            </a:xfrm>
            <a:prstGeom prst="rect">
              <a:avLst/>
            </a:prstGeom>
            <a:solidFill>
              <a:srgbClr val="ffd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54760" y="5349960"/>
              <a:ext cx="32040" cy="763560"/>
            </a:xfrm>
            <a:prstGeom prst="rect">
              <a:avLst/>
            </a:prstGeom>
            <a:solidFill>
              <a:srgbClr val="ffd7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86800" y="5349960"/>
              <a:ext cx="54720" cy="763560"/>
            </a:xfrm>
            <a:prstGeom prst="rect">
              <a:avLst/>
            </a:prstGeom>
            <a:solidFill>
              <a:srgbClr val="ffd8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441520" y="5349960"/>
              <a:ext cx="58680" cy="763560"/>
            </a:xfrm>
            <a:prstGeom prst="rect">
              <a:avLst/>
            </a:prstGeom>
            <a:solidFill>
              <a:srgbClr val="ffd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00560" y="5349960"/>
              <a:ext cx="26640" cy="763560"/>
            </a:xfrm>
            <a:prstGeom prst="rect">
              <a:avLst/>
            </a:prstGeom>
            <a:solidFill>
              <a:srgbClr val="ffda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27560" y="5349960"/>
              <a:ext cx="54720" cy="763560"/>
            </a:xfrm>
            <a:prstGeom prst="rect">
              <a:avLst/>
            </a:prstGeom>
            <a:solidFill>
              <a:srgbClr val="ffd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82280" y="5349960"/>
              <a:ext cx="59760" cy="763560"/>
            </a:xfrm>
            <a:prstGeom prst="rect">
              <a:avLst/>
            </a:prstGeom>
            <a:solidFill>
              <a:srgbClr val="ffdc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42400" y="5349960"/>
              <a:ext cx="26640" cy="763560"/>
            </a:xfrm>
            <a:prstGeom prst="rect">
              <a:avLst/>
            </a:prstGeom>
            <a:solidFill>
              <a:srgbClr val="ffd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69400" y="5349960"/>
              <a:ext cx="54720" cy="763560"/>
            </a:xfrm>
            <a:prstGeom prst="rect">
              <a:avLst/>
            </a:prstGeom>
            <a:solidFill>
              <a:srgbClr val="ffdd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24120" y="5349960"/>
              <a:ext cx="32040" cy="763560"/>
            </a:xfrm>
            <a:prstGeom prst="rect">
              <a:avLst/>
            </a:prstGeom>
            <a:solidFill>
              <a:srgbClr val="ffd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756160" y="5349960"/>
              <a:ext cx="54720" cy="763560"/>
            </a:xfrm>
            <a:prstGeom prst="rect">
              <a:avLst/>
            </a:prstGeom>
            <a:solidFill>
              <a:srgbClr val="ffd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11240" y="5349960"/>
              <a:ext cx="58680" cy="763560"/>
            </a:xfrm>
            <a:prstGeom prst="rect">
              <a:avLst/>
            </a:prstGeom>
            <a:solidFill>
              <a:srgbClr val="ffd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70280" y="5349960"/>
              <a:ext cx="27720" cy="763560"/>
            </a:xfrm>
            <a:prstGeom prst="rect">
              <a:avLst/>
            </a:prstGeom>
            <a:solidFill>
              <a:srgbClr val="ffe0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98000" y="5349960"/>
              <a:ext cx="53640" cy="763560"/>
            </a:xfrm>
            <a:prstGeom prst="rect">
              <a:avLst/>
            </a:prstGeom>
            <a:solidFill>
              <a:srgbClr val="ffe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52000" y="5349960"/>
              <a:ext cx="32040" cy="763560"/>
            </a:xfrm>
            <a:prstGeom prst="rect">
              <a:avLst/>
            </a:prstGeom>
            <a:solidFill>
              <a:srgbClr val="ffe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84040" y="5349960"/>
              <a:ext cx="54720" cy="763560"/>
            </a:xfrm>
            <a:prstGeom prst="rect">
              <a:avLst/>
            </a:prstGeom>
            <a:solidFill>
              <a:srgbClr val="ffe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38760" y="5349960"/>
              <a:ext cx="54720" cy="763560"/>
            </a:xfrm>
            <a:prstGeom prst="rect">
              <a:avLst/>
            </a:prstGeom>
            <a:solidFill>
              <a:srgbClr val="ffe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93840" y="5349960"/>
              <a:ext cx="32040" cy="763560"/>
            </a:xfrm>
            <a:prstGeom prst="rect">
              <a:avLst/>
            </a:prstGeom>
            <a:solidFill>
              <a:srgbClr val="ffe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25880" y="5349960"/>
              <a:ext cx="54720" cy="763560"/>
            </a:xfrm>
            <a:prstGeom prst="rect">
              <a:avLst/>
            </a:prstGeom>
            <a:solidFill>
              <a:srgbClr val="ffe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80600" y="5349960"/>
              <a:ext cx="26640" cy="763560"/>
            </a:xfrm>
            <a:prstGeom prst="rect">
              <a:avLst/>
            </a:prstGeom>
            <a:solidFill>
              <a:srgbClr val="ffe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207600" y="5349960"/>
              <a:ext cx="59760" cy="763560"/>
            </a:xfrm>
            <a:prstGeom prst="rect">
              <a:avLst/>
            </a:prstGeom>
            <a:solidFill>
              <a:srgbClr val="ffe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67720" y="5349960"/>
              <a:ext cx="54720" cy="763560"/>
            </a:xfrm>
            <a:prstGeom prst="rect">
              <a:avLst/>
            </a:prstGeom>
            <a:solidFill>
              <a:srgbClr val="ffe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322440" y="5349960"/>
              <a:ext cx="32040" cy="763560"/>
            </a:xfrm>
            <a:prstGeom prst="rect">
              <a:avLst/>
            </a:prstGeom>
            <a:solidFill>
              <a:srgbClr val="ffe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354840" y="5349960"/>
              <a:ext cx="53640" cy="763560"/>
            </a:xfrm>
            <a:prstGeom prst="rect">
              <a:avLst/>
            </a:prstGeom>
            <a:solidFill>
              <a:srgbClr val="ffe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08480" y="5349960"/>
              <a:ext cx="27720" cy="763560"/>
            </a:xfrm>
            <a:prstGeom prst="rect">
              <a:avLst/>
            </a:prstGeom>
            <a:solidFill>
              <a:srgbClr val="ffe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36560" y="5349960"/>
              <a:ext cx="58680" cy="763560"/>
            </a:xfrm>
            <a:prstGeom prst="rect">
              <a:avLst/>
            </a:prstGeom>
            <a:solidFill>
              <a:srgbClr val="ffe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95600" y="5349960"/>
              <a:ext cx="54720" cy="763560"/>
            </a:xfrm>
            <a:prstGeom prst="rect">
              <a:avLst/>
            </a:prstGeom>
            <a:solidFill>
              <a:srgbClr val="ffe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50320" y="5349960"/>
              <a:ext cx="27720" cy="763560"/>
            </a:xfrm>
            <a:prstGeom prst="rect">
              <a:avLst/>
            </a:prstGeom>
            <a:solidFill>
              <a:srgbClr val="ffe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578400" y="5349960"/>
              <a:ext cx="58680" cy="763560"/>
            </a:xfrm>
            <a:prstGeom prst="rect">
              <a:avLst/>
            </a:prstGeom>
            <a:solidFill>
              <a:srgbClr val="ffe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37440" y="5349960"/>
              <a:ext cx="26640" cy="763560"/>
            </a:xfrm>
            <a:prstGeom prst="rect">
              <a:avLst/>
            </a:prstGeom>
            <a:solidFill>
              <a:srgbClr val="ffe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64080" y="5349960"/>
              <a:ext cx="59760" cy="763560"/>
            </a:xfrm>
            <a:prstGeom prst="rect">
              <a:avLst/>
            </a:prstGeom>
            <a:solidFill>
              <a:srgbClr val="ffe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24200" y="5349960"/>
              <a:ext cx="54720" cy="763560"/>
            </a:xfrm>
            <a:prstGeom prst="rect">
              <a:avLst/>
            </a:prstGeom>
            <a:solidFill>
              <a:srgbClr val="ffe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779280" y="5349960"/>
              <a:ext cx="26640" cy="763560"/>
            </a:xfrm>
            <a:prstGeom prst="rect">
              <a:avLst/>
            </a:prstGeom>
            <a:solidFill>
              <a:srgbClr val="ffe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05920" y="5349960"/>
              <a:ext cx="58680" cy="763560"/>
            </a:xfrm>
            <a:prstGeom prst="rect">
              <a:avLst/>
            </a:prstGeom>
            <a:solidFill>
              <a:srgbClr val="ffe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64960" y="5349960"/>
              <a:ext cx="27720" cy="763560"/>
            </a:xfrm>
            <a:prstGeom prst="rect">
              <a:avLst/>
            </a:prstGeom>
            <a:solidFill>
              <a:srgbClr val="ffe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893040" y="5349960"/>
              <a:ext cx="54720" cy="763560"/>
            </a:xfrm>
            <a:prstGeom prst="rect">
              <a:avLst/>
            </a:prstGeom>
            <a:solidFill>
              <a:srgbClr val="ffe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47760" y="5349960"/>
              <a:ext cx="58680" cy="763560"/>
            </a:xfrm>
            <a:prstGeom prst="rect">
              <a:avLst/>
            </a:prstGeom>
            <a:solidFill>
              <a:srgbClr val="ffe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06800" y="5349960"/>
              <a:ext cx="27720" cy="763560"/>
            </a:xfrm>
            <a:prstGeom prst="rect">
              <a:avLst/>
            </a:prstGeom>
            <a:solidFill>
              <a:srgbClr val="ffe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034880" y="5349960"/>
              <a:ext cx="58680" cy="763560"/>
            </a:xfrm>
            <a:prstGeom prst="rect">
              <a:avLst/>
            </a:prstGeom>
            <a:solidFill>
              <a:srgbClr val="ffe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93920" y="5349960"/>
              <a:ext cx="26640" cy="763560"/>
            </a:xfrm>
            <a:prstGeom prst="rect">
              <a:avLst/>
            </a:prstGeom>
            <a:solidFill>
              <a:srgbClr val="ffe0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20920" y="5349960"/>
              <a:ext cx="54720" cy="763560"/>
            </a:xfrm>
            <a:prstGeom prst="rect">
              <a:avLst/>
            </a:prstGeom>
            <a:solidFill>
              <a:srgbClr val="ffd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75640" y="5349960"/>
              <a:ext cx="59760" cy="763560"/>
            </a:xfrm>
            <a:prstGeom prst="rect">
              <a:avLst/>
            </a:prstGeom>
            <a:solidFill>
              <a:srgbClr val="ffd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35760" y="5349960"/>
              <a:ext cx="26640" cy="763560"/>
            </a:xfrm>
            <a:prstGeom prst="rect">
              <a:avLst/>
            </a:prstGeom>
            <a:solidFill>
              <a:srgbClr val="ffd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262760" y="5349960"/>
              <a:ext cx="58680" cy="763560"/>
            </a:xfrm>
            <a:prstGeom prst="rect">
              <a:avLst/>
            </a:prstGeom>
            <a:solidFill>
              <a:srgbClr val="ffdd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21440" y="5349960"/>
              <a:ext cx="27720" cy="763560"/>
            </a:xfrm>
            <a:prstGeom prst="rect">
              <a:avLst/>
            </a:prstGeom>
            <a:solidFill>
              <a:srgbClr val="ffd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49520" y="5349960"/>
              <a:ext cx="54720" cy="763560"/>
            </a:xfrm>
            <a:prstGeom prst="rect">
              <a:avLst/>
            </a:prstGeom>
            <a:solidFill>
              <a:srgbClr val="ffdc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04600" y="5349960"/>
              <a:ext cx="58680" cy="763560"/>
            </a:xfrm>
            <a:prstGeom prst="rect">
              <a:avLst/>
            </a:prstGeom>
            <a:solidFill>
              <a:srgbClr val="ffd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63280" y="5349960"/>
              <a:ext cx="27720" cy="763560"/>
            </a:xfrm>
            <a:prstGeom prst="rect">
              <a:avLst/>
            </a:prstGeom>
            <a:solidFill>
              <a:srgbClr val="ffda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91360" y="5349960"/>
              <a:ext cx="53640" cy="763560"/>
            </a:xfrm>
            <a:prstGeom prst="rect">
              <a:avLst/>
            </a:prstGeom>
            <a:solidFill>
              <a:srgbClr val="ffd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45360" y="5349960"/>
              <a:ext cx="32040" cy="763560"/>
            </a:xfrm>
            <a:prstGeom prst="rect">
              <a:avLst/>
            </a:prstGeom>
            <a:solidFill>
              <a:srgbClr val="ffd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7400" y="5349960"/>
              <a:ext cx="54720" cy="763560"/>
            </a:xfrm>
            <a:prstGeom prst="rect">
              <a:avLst/>
            </a:prstGeom>
            <a:solidFill>
              <a:srgbClr val="ffd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32120" y="5349960"/>
              <a:ext cx="59760" cy="763560"/>
            </a:xfrm>
            <a:prstGeom prst="rect">
              <a:avLst/>
            </a:prstGeom>
            <a:solidFill>
              <a:srgbClr val="ffd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92240" y="5349960"/>
              <a:ext cx="26640" cy="763560"/>
            </a:xfrm>
            <a:prstGeom prst="rect">
              <a:avLst/>
            </a:prstGeom>
            <a:solidFill>
              <a:srgbClr val="ffd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719240" y="5349960"/>
              <a:ext cx="54720" cy="763560"/>
            </a:xfrm>
            <a:prstGeom prst="rect">
              <a:avLst/>
            </a:prstGeom>
            <a:solidFill>
              <a:srgbClr val="ffd5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73960" y="5349960"/>
              <a:ext cx="58680" cy="763560"/>
            </a:xfrm>
            <a:prstGeom prst="rect">
              <a:avLst/>
            </a:prstGeom>
            <a:solidFill>
              <a:srgbClr val="ffd4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33000" y="5349960"/>
              <a:ext cx="27720" cy="763560"/>
            </a:xfrm>
            <a:prstGeom prst="rect">
              <a:avLst/>
            </a:prstGeom>
            <a:solidFill>
              <a:srgbClr val="ffd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1080" y="5349960"/>
              <a:ext cx="54720" cy="763560"/>
            </a:xfrm>
            <a:prstGeom prst="rect">
              <a:avLst/>
            </a:prstGeom>
            <a:solidFill>
              <a:srgbClr val="ffd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15800" y="5349960"/>
              <a:ext cx="30960" cy="763560"/>
            </a:xfrm>
            <a:prstGeom prst="rect">
              <a:avLst/>
            </a:prstGeom>
            <a:solidFill>
              <a:srgbClr val="ffd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46760" y="5349960"/>
              <a:ext cx="54720" cy="763560"/>
            </a:xfrm>
            <a:prstGeom prst="rect">
              <a:avLst/>
            </a:prstGeom>
            <a:solidFill>
              <a:srgbClr val="ffd1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01840" y="5349960"/>
              <a:ext cx="59760" cy="763560"/>
            </a:xfrm>
            <a:prstGeom prst="rect">
              <a:avLst/>
            </a:prstGeom>
            <a:solidFill>
              <a:srgbClr val="ffd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61960" y="5349960"/>
              <a:ext cx="26640" cy="763560"/>
            </a:xfrm>
            <a:prstGeom prst="rect">
              <a:avLst/>
            </a:prstGeom>
            <a:solidFill>
              <a:srgbClr val="ffd0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88600" y="5349960"/>
              <a:ext cx="54720" cy="763560"/>
            </a:xfrm>
            <a:prstGeom prst="rect">
              <a:avLst/>
            </a:prstGeom>
            <a:solidFill>
              <a:srgbClr val="ffc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43680" y="5349960"/>
              <a:ext cx="32040" cy="763560"/>
            </a:xfrm>
            <a:prstGeom prst="rect">
              <a:avLst/>
            </a:prstGeom>
            <a:solidFill>
              <a:srgbClr val="ffc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75720" y="5349960"/>
              <a:ext cx="54720" cy="763560"/>
            </a:xfrm>
            <a:prstGeom prst="rect">
              <a:avLst/>
            </a:prstGeom>
            <a:solidFill>
              <a:srgbClr val="ffc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30440" y="5349960"/>
              <a:ext cx="58680" cy="763560"/>
            </a:xfrm>
            <a:prstGeom prst="rect">
              <a:avLst/>
            </a:prstGeom>
            <a:solidFill>
              <a:srgbClr val="ffce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289480" y="5349960"/>
              <a:ext cx="27720" cy="763560"/>
            </a:xfrm>
            <a:prstGeom prst="rect">
              <a:avLst/>
            </a:prstGeom>
            <a:solidFill>
              <a:srgbClr val="ffcd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17560" y="5349960"/>
              <a:ext cx="54720" cy="763560"/>
            </a:xfrm>
            <a:prstGeom prst="rect">
              <a:avLst/>
            </a:prstGeom>
            <a:solidFill>
              <a:srgbClr val="ffc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72280" y="5349960"/>
              <a:ext cx="26640" cy="763560"/>
            </a:xfrm>
            <a:prstGeom prst="rect">
              <a:avLst/>
            </a:prstGeom>
            <a:solidFill>
              <a:srgbClr val="ffc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99280" y="5349960"/>
              <a:ext cx="58680" cy="763560"/>
            </a:xfrm>
            <a:prstGeom prst="rect">
              <a:avLst/>
            </a:prstGeom>
            <a:solidFill>
              <a:srgbClr val="ffcd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458320" y="5349960"/>
              <a:ext cx="54720" cy="763560"/>
            </a:xfrm>
            <a:prstGeom prst="rect">
              <a:avLst/>
            </a:prstGeom>
            <a:solidFill>
              <a:srgbClr val="ffcc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13040" y="5349960"/>
              <a:ext cx="32040" cy="763560"/>
            </a:xfrm>
            <a:prstGeom prst="rect">
              <a:avLst/>
            </a:prstGeom>
            <a:solidFill>
              <a:srgbClr val="ffcc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45440" y="5349960"/>
              <a:ext cx="54720" cy="763560"/>
            </a:xfrm>
            <a:prstGeom prst="rect">
              <a:avLst/>
            </a:prstGeom>
            <a:solidFill>
              <a:srgbClr val="ffc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600160" y="5349960"/>
              <a:ext cx="27720" cy="763560"/>
            </a:xfrm>
            <a:prstGeom prst="rect">
              <a:avLst/>
            </a:prstGeom>
            <a:solidFill>
              <a:srgbClr val="ffc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628240" y="5349960"/>
              <a:ext cx="58680" cy="763560"/>
            </a:xfrm>
            <a:prstGeom prst="rect">
              <a:avLst/>
            </a:prstGeom>
            <a:solidFill>
              <a:srgbClr val="ffc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2573280" y="4343400"/>
            <a:ext cx="165420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305000" y="3551400"/>
            <a:ext cx="4381920" cy="710640"/>
            <a:chOff x="1305000" y="3551400"/>
            <a:chExt cx="4381920" cy="710640"/>
          </a:xfrm>
        </p:grpSpPr>
        <p:sp>
          <p:nvSpPr>
            <p:cNvPr id="402" name=""/>
            <p:cNvSpPr/>
            <p:nvPr/>
          </p:nvSpPr>
          <p:spPr>
            <a:xfrm>
              <a:off x="1305000" y="3551400"/>
              <a:ext cx="53640" cy="710640"/>
            </a:xfrm>
            <a:prstGeom prst="rect">
              <a:avLst/>
            </a:prstGeom>
            <a:solidFill>
              <a:srgbClr val="08ff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358640" y="3551400"/>
              <a:ext cx="27720" cy="710640"/>
            </a:xfrm>
            <a:prstGeom prst="rect">
              <a:avLst/>
            </a:prstGeom>
            <a:solidFill>
              <a:srgbClr val="0ff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86720" y="3551400"/>
              <a:ext cx="58680" cy="710640"/>
            </a:xfrm>
            <a:prstGeom prst="rect">
              <a:avLst/>
            </a:prstGeom>
            <a:solidFill>
              <a:srgbClr val="14f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45760" y="3551400"/>
              <a:ext cx="27720" cy="710640"/>
            </a:xfrm>
            <a:prstGeom prst="rect">
              <a:avLst/>
            </a:prstGeom>
            <a:solidFill>
              <a:srgbClr val="18ff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73480" y="3551400"/>
              <a:ext cx="58680" cy="710640"/>
            </a:xfrm>
            <a:prstGeom prst="rect">
              <a:avLst/>
            </a:prstGeom>
            <a:solidFill>
              <a:srgbClr val="1cf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32520" y="3551400"/>
              <a:ext cx="54720" cy="710640"/>
            </a:xfrm>
            <a:prstGeom prst="rect">
              <a:avLst/>
            </a:prstGeom>
            <a:solidFill>
              <a:srgbClr val="21f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587600" y="3551400"/>
              <a:ext cx="26640" cy="710640"/>
            </a:xfrm>
            <a:prstGeom prst="rect">
              <a:avLst/>
            </a:prstGeom>
            <a:solidFill>
              <a:srgbClr val="26f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14240" y="3551400"/>
              <a:ext cx="59760" cy="710640"/>
            </a:xfrm>
            <a:prstGeom prst="rect">
              <a:avLst/>
            </a:prstGeom>
            <a:solidFill>
              <a:srgbClr val="2a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74360" y="3551400"/>
              <a:ext cx="26640" cy="710640"/>
            </a:xfrm>
            <a:prstGeom prst="rect">
              <a:avLst/>
            </a:prstGeom>
            <a:solidFill>
              <a:srgbClr val="2ef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01360" y="3551400"/>
              <a:ext cx="54720" cy="710640"/>
            </a:xfrm>
            <a:prstGeom prst="rect">
              <a:avLst/>
            </a:prstGeom>
            <a:solidFill>
              <a:srgbClr val="32ff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756080" y="3551400"/>
              <a:ext cx="58680" cy="710640"/>
            </a:xfrm>
            <a:prstGeom prst="rect">
              <a:avLst/>
            </a:prstGeom>
            <a:solidFill>
              <a:srgbClr val="38ff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15120" y="3551400"/>
              <a:ext cx="27720" cy="710640"/>
            </a:xfrm>
            <a:prstGeom prst="rect">
              <a:avLst/>
            </a:prstGeom>
            <a:solidFill>
              <a:srgbClr val="3df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843200" y="3551400"/>
              <a:ext cx="58680" cy="710640"/>
            </a:xfrm>
            <a:prstGeom prst="rect">
              <a:avLst/>
            </a:prstGeom>
            <a:solidFill>
              <a:srgbClr val="41f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902240" y="3551400"/>
              <a:ext cx="27720" cy="710640"/>
            </a:xfrm>
            <a:prstGeom prst="rect">
              <a:avLst/>
            </a:prstGeom>
            <a:solidFill>
              <a:srgbClr val="46ff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29960" y="3551400"/>
              <a:ext cx="54720" cy="710640"/>
            </a:xfrm>
            <a:prstGeom prst="rect">
              <a:avLst/>
            </a:prstGeom>
            <a:solidFill>
              <a:srgbClr val="4aff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5040" y="3551400"/>
              <a:ext cx="58680" cy="710640"/>
            </a:xfrm>
            <a:prstGeom prst="rect">
              <a:avLst/>
            </a:prstGeom>
            <a:solidFill>
              <a:srgbClr val="51f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44080" y="3551400"/>
              <a:ext cx="26640" cy="710640"/>
            </a:xfrm>
            <a:prstGeom prst="rect">
              <a:avLst/>
            </a:prstGeom>
            <a:solidFill>
              <a:srgbClr val="55f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71080" y="3551400"/>
              <a:ext cx="54720" cy="710640"/>
            </a:xfrm>
            <a:prstGeom prst="rect">
              <a:avLst/>
            </a:prstGeom>
            <a:solidFill>
              <a:srgbClr val="5aff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25800" y="3551400"/>
              <a:ext cx="32040" cy="710640"/>
            </a:xfrm>
            <a:prstGeom prst="rect">
              <a:avLst/>
            </a:prstGeom>
            <a:solidFill>
              <a:srgbClr val="5ef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57840" y="3551400"/>
              <a:ext cx="54720" cy="710640"/>
            </a:xfrm>
            <a:prstGeom prst="rect">
              <a:avLst/>
            </a:prstGeom>
            <a:solidFill>
              <a:srgbClr val="63f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12920" y="3551400"/>
              <a:ext cx="58680" cy="710640"/>
            </a:xfrm>
            <a:prstGeom prst="rect">
              <a:avLst/>
            </a:prstGeom>
            <a:solidFill>
              <a:srgbClr val="68f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71600" y="3551400"/>
              <a:ext cx="27720" cy="710640"/>
            </a:xfrm>
            <a:prstGeom prst="rect">
              <a:avLst/>
            </a:prstGeom>
            <a:solidFill>
              <a:srgbClr val="6cf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99680" y="3551400"/>
              <a:ext cx="54720" cy="710640"/>
            </a:xfrm>
            <a:prstGeom prst="rect">
              <a:avLst/>
            </a:prstGeom>
            <a:solidFill>
              <a:srgbClr val="70f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354760" y="3551400"/>
              <a:ext cx="32040" cy="710640"/>
            </a:xfrm>
            <a:prstGeom prst="rect">
              <a:avLst/>
            </a:prstGeom>
            <a:solidFill>
              <a:srgbClr val="74ff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386800" y="3551400"/>
              <a:ext cx="54720" cy="710640"/>
            </a:xfrm>
            <a:prstGeom prst="rect">
              <a:avLst/>
            </a:prstGeom>
            <a:solidFill>
              <a:srgbClr val="78f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41520" y="3551400"/>
              <a:ext cx="58680" cy="710640"/>
            </a:xfrm>
            <a:prstGeom prst="rect">
              <a:avLst/>
            </a:prstGeom>
            <a:solidFill>
              <a:srgbClr val="7df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500560" y="3551400"/>
              <a:ext cx="26640" cy="710640"/>
            </a:xfrm>
            <a:prstGeom prst="rect">
              <a:avLst/>
            </a:prstGeom>
            <a:solidFill>
              <a:srgbClr val="81f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27560" y="3551400"/>
              <a:ext cx="54720" cy="710640"/>
            </a:xfrm>
            <a:prstGeom prst="rect">
              <a:avLst/>
            </a:prstGeom>
            <a:solidFill>
              <a:srgbClr val="85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582280" y="3551400"/>
              <a:ext cx="59760" cy="710640"/>
            </a:xfrm>
            <a:prstGeom prst="rect">
              <a:avLst/>
            </a:prstGeom>
            <a:solidFill>
              <a:srgbClr val="88f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42400" y="3551400"/>
              <a:ext cx="26640" cy="710640"/>
            </a:xfrm>
            <a:prstGeom prst="rect">
              <a:avLst/>
            </a:prstGeom>
            <a:solidFill>
              <a:srgbClr val="8c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669400" y="3551400"/>
              <a:ext cx="54720" cy="710640"/>
            </a:xfrm>
            <a:prstGeom prst="rect">
              <a:avLst/>
            </a:prstGeom>
            <a:solidFill>
              <a:srgbClr val="8ef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24120" y="3551400"/>
              <a:ext cx="32040" cy="710640"/>
            </a:xfrm>
            <a:prstGeom prst="rect">
              <a:avLst/>
            </a:prstGeom>
            <a:solidFill>
              <a:srgbClr val="91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56160" y="3551400"/>
              <a:ext cx="54720" cy="710640"/>
            </a:xfrm>
            <a:prstGeom prst="rect">
              <a:avLst/>
            </a:prstGeom>
            <a:solidFill>
              <a:srgbClr val="94f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811240" y="3551400"/>
              <a:ext cx="58680" cy="710640"/>
            </a:xfrm>
            <a:prstGeom prst="rect">
              <a:avLst/>
            </a:prstGeom>
            <a:solidFill>
              <a:srgbClr val="97f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70280" y="3551400"/>
              <a:ext cx="27720" cy="71064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898000" y="3551400"/>
              <a:ext cx="53640" cy="710640"/>
            </a:xfrm>
            <a:prstGeom prst="rect">
              <a:avLst/>
            </a:prstGeom>
            <a:solidFill>
              <a:srgbClr val="9b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52000" y="3551400"/>
              <a:ext cx="32040" cy="710640"/>
            </a:xfrm>
            <a:prstGeom prst="rect">
              <a:avLst/>
            </a:prstGeom>
            <a:solidFill>
              <a:srgbClr val="9df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984040" y="3551400"/>
              <a:ext cx="54720" cy="710640"/>
            </a:xfrm>
            <a:prstGeom prst="rect">
              <a:avLst/>
            </a:prstGeom>
            <a:solidFill>
              <a:srgbClr val="9f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38760" y="3551400"/>
              <a:ext cx="54720" cy="710640"/>
            </a:xfrm>
            <a:prstGeom prst="rect">
              <a:avLst/>
            </a:prstGeom>
            <a:solidFill>
              <a:srgbClr val="a1f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93840" y="3551400"/>
              <a:ext cx="32040" cy="710640"/>
            </a:xfrm>
            <a:prstGeom prst="rect">
              <a:avLst/>
            </a:prstGeom>
            <a:solidFill>
              <a:srgbClr val="a2f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125880" y="3551400"/>
              <a:ext cx="54720" cy="710640"/>
            </a:xfrm>
            <a:prstGeom prst="rect">
              <a:avLst/>
            </a:prstGeom>
            <a:solidFill>
              <a:srgbClr val="a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180600" y="3551400"/>
              <a:ext cx="26640" cy="710640"/>
            </a:xfrm>
            <a:prstGeom prst="rect">
              <a:avLst/>
            </a:prstGeom>
            <a:solidFill>
              <a:srgbClr val="a4f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07600" y="3551400"/>
              <a:ext cx="59760" cy="710640"/>
            </a:xfrm>
            <a:prstGeom prst="rect">
              <a:avLst/>
            </a:prstGeom>
            <a:solidFill>
              <a:srgbClr val="a5f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267720" y="3551400"/>
              <a:ext cx="54720" cy="710640"/>
            </a:xfrm>
            <a:prstGeom prst="rect">
              <a:avLst/>
            </a:prstGeom>
            <a:solidFill>
              <a:srgbClr val="a6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22440" y="3551400"/>
              <a:ext cx="32040" cy="710640"/>
            </a:xfrm>
            <a:prstGeom prst="rect">
              <a:avLst/>
            </a:prstGeom>
            <a:solidFill>
              <a:srgbClr val="a7f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54840" y="3551400"/>
              <a:ext cx="53640" cy="710640"/>
            </a:xfrm>
            <a:prstGeom prst="rect">
              <a:avLst/>
            </a:prstGeom>
            <a:solidFill>
              <a:srgbClr val="a7f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408480" y="3551400"/>
              <a:ext cx="27720" cy="710640"/>
            </a:xfrm>
            <a:prstGeom prst="rect">
              <a:avLst/>
            </a:prstGeom>
            <a:solidFill>
              <a:srgbClr val="a8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36560" y="3551400"/>
              <a:ext cx="58680" cy="710640"/>
            </a:xfrm>
            <a:prstGeom prst="rect">
              <a:avLst/>
            </a:prstGeom>
            <a:solidFill>
              <a:srgbClr val="a8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95600" y="3551400"/>
              <a:ext cx="54720" cy="710640"/>
            </a:xfrm>
            <a:prstGeom prst="rect">
              <a:avLst/>
            </a:prstGeom>
            <a:solidFill>
              <a:srgbClr val="a8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50320" y="3551400"/>
              <a:ext cx="27720" cy="710640"/>
            </a:xfrm>
            <a:prstGeom prst="rect">
              <a:avLst/>
            </a:prstGeom>
            <a:solidFill>
              <a:srgbClr val="a8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78400" y="3551400"/>
              <a:ext cx="58680" cy="710640"/>
            </a:xfrm>
            <a:prstGeom prst="rect">
              <a:avLst/>
            </a:prstGeom>
            <a:solidFill>
              <a:srgbClr val="a7f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637440" y="3551400"/>
              <a:ext cx="26640" cy="710640"/>
            </a:xfrm>
            <a:prstGeom prst="rect">
              <a:avLst/>
            </a:prstGeom>
            <a:solidFill>
              <a:srgbClr val="a7f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64080" y="3551400"/>
              <a:ext cx="59760" cy="710640"/>
            </a:xfrm>
            <a:prstGeom prst="rect">
              <a:avLst/>
            </a:prstGeom>
            <a:solidFill>
              <a:srgbClr val="a6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724200" y="3551400"/>
              <a:ext cx="54720" cy="710640"/>
            </a:xfrm>
            <a:prstGeom prst="rect">
              <a:avLst/>
            </a:prstGeom>
            <a:solidFill>
              <a:srgbClr val="a5f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779280" y="3551400"/>
              <a:ext cx="26640" cy="710640"/>
            </a:xfrm>
            <a:prstGeom prst="rect">
              <a:avLst/>
            </a:prstGeom>
            <a:solidFill>
              <a:srgbClr val="a4f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05920" y="3551400"/>
              <a:ext cx="58680" cy="710640"/>
            </a:xfrm>
            <a:prstGeom prst="rect">
              <a:avLst/>
            </a:prstGeom>
            <a:solidFill>
              <a:srgbClr val="a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864960" y="3551400"/>
              <a:ext cx="27720" cy="710640"/>
            </a:xfrm>
            <a:prstGeom prst="rect">
              <a:avLst/>
            </a:prstGeom>
            <a:solidFill>
              <a:srgbClr val="a2f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893040" y="3551400"/>
              <a:ext cx="54720" cy="710640"/>
            </a:xfrm>
            <a:prstGeom prst="rect">
              <a:avLst/>
            </a:prstGeom>
            <a:solidFill>
              <a:srgbClr val="a1f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47760" y="3551400"/>
              <a:ext cx="58680" cy="710640"/>
            </a:xfrm>
            <a:prstGeom prst="rect">
              <a:avLst/>
            </a:prstGeom>
            <a:solidFill>
              <a:srgbClr val="9f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06800" y="3551400"/>
              <a:ext cx="27720" cy="710640"/>
            </a:xfrm>
            <a:prstGeom prst="rect">
              <a:avLst/>
            </a:prstGeom>
            <a:solidFill>
              <a:srgbClr val="9df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34880" y="3551400"/>
              <a:ext cx="58680" cy="710640"/>
            </a:xfrm>
            <a:prstGeom prst="rect">
              <a:avLst/>
            </a:prstGeom>
            <a:solidFill>
              <a:srgbClr val="9b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93920" y="3551400"/>
              <a:ext cx="26640" cy="71064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20920" y="3551400"/>
              <a:ext cx="54720" cy="710640"/>
            </a:xfrm>
            <a:prstGeom prst="rect">
              <a:avLst/>
            </a:prstGeom>
            <a:solidFill>
              <a:srgbClr val="97f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175640" y="3551400"/>
              <a:ext cx="59760" cy="710640"/>
            </a:xfrm>
            <a:prstGeom prst="rect">
              <a:avLst/>
            </a:prstGeom>
            <a:solidFill>
              <a:srgbClr val="94f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35760" y="3551400"/>
              <a:ext cx="26640" cy="710640"/>
            </a:xfrm>
            <a:prstGeom prst="rect">
              <a:avLst/>
            </a:prstGeom>
            <a:solidFill>
              <a:srgbClr val="91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262760" y="3551400"/>
              <a:ext cx="58680" cy="710640"/>
            </a:xfrm>
            <a:prstGeom prst="rect">
              <a:avLst/>
            </a:prstGeom>
            <a:solidFill>
              <a:srgbClr val="8ef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21440" y="3551400"/>
              <a:ext cx="27720" cy="710640"/>
            </a:xfrm>
            <a:prstGeom prst="rect">
              <a:avLst/>
            </a:prstGeom>
            <a:solidFill>
              <a:srgbClr val="8cf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349520" y="3551400"/>
              <a:ext cx="54720" cy="710640"/>
            </a:xfrm>
            <a:prstGeom prst="rect">
              <a:avLst/>
            </a:prstGeom>
            <a:solidFill>
              <a:srgbClr val="88f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404600" y="3551400"/>
              <a:ext cx="58680" cy="710640"/>
            </a:xfrm>
            <a:prstGeom prst="rect">
              <a:avLst/>
            </a:prstGeom>
            <a:solidFill>
              <a:srgbClr val="85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63280" y="3551400"/>
              <a:ext cx="27720" cy="710640"/>
            </a:xfrm>
            <a:prstGeom prst="rect">
              <a:avLst/>
            </a:prstGeom>
            <a:solidFill>
              <a:srgbClr val="81f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91360" y="3551400"/>
              <a:ext cx="53640" cy="710640"/>
            </a:xfrm>
            <a:prstGeom prst="rect">
              <a:avLst/>
            </a:prstGeom>
            <a:solidFill>
              <a:srgbClr val="7df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45360" y="3551400"/>
              <a:ext cx="32040" cy="710640"/>
            </a:xfrm>
            <a:prstGeom prst="rect">
              <a:avLst/>
            </a:prstGeom>
            <a:solidFill>
              <a:srgbClr val="7af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77400" y="3551400"/>
              <a:ext cx="54720" cy="710640"/>
            </a:xfrm>
            <a:prstGeom prst="rect">
              <a:avLst/>
            </a:prstGeom>
            <a:solidFill>
              <a:srgbClr val="76ff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632120" y="3551400"/>
              <a:ext cx="59760" cy="710640"/>
            </a:xfrm>
            <a:prstGeom prst="rect">
              <a:avLst/>
            </a:prstGeom>
            <a:solidFill>
              <a:srgbClr val="70f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692240" y="3551400"/>
              <a:ext cx="26640" cy="710640"/>
            </a:xfrm>
            <a:prstGeom prst="rect">
              <a:avLst/>
            </a:prstGeom>
            <a:solidFill>
              <a:srgbClr val="6cf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719240" y="3551400"/>
              <a:ext cx="54720" cy="710640"/>
            </a:xfrm>
            <a:prstGeom prst="rect">
              <a:avLst/>
            </a:prstGeom>
            <a:solidFill>
              <a:srgbClr val="68f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773960" y="3551400"/>
              <a:ext cx="58680" cy="710640"/>
            </a:xfrm>
            <a:prstGeom prst="rect">
              <a:avLst/>
            </a:prstGeom>
            <a:solidFill>
              <a:srgbClr val="63f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833000" y="3551400"/>
              <a:ext cx="27720" cy="710640"/>
            </a:xfrm>
            <a:prstGeom prst="rect">
              <a:avLst/>
            </a:prstGeom>
            <a:solidFill>
              <a:srgbClr val="5ef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861080" y="3551400"/>
              <a:ext cx="54720" cy="710640"/>
            </a:xfrm>
            <a:prstGeom prst="rect">
              <a:avLst/>
            </a:prstGeom>
            <a:solidFill>
              <a:srgbClr val="5aff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915800" y="3551400"/>
              <a:ext cx="30960" cy="710640"/>
            </a:xfrm>
            <a:prstGeom prst="rect">
              <a:avLst/>
            </a:prstGeom>
            <a:solidFill>
              <a:srgbClr val="55f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946760" y="3551400"/>
              <a:ext cx="54720" cy="710640"/>
            </a:xfrm>
            <a:prstGeom prst="rect">
              <a:avLst/>
            </a:prstGeom>
            <a:solidFill>
              <a:srgbClr val="51f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01840" y="3551400"/>
              <a:ext cx="59760" cy="710640"/>
            </a:xfrm>
            <a:prstGeom prst="rect">
              <a:avLst/>
            </a:prstGeom>
            <a:solidFill>
              <a:srgbClr val="4aff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061960" y="3551400"/>
              <a:ext cx="26640" cy="710640"/>
            </a:xfrm>
            <a:prstGeom prst="rect">
              <a:avLst/>
            </a:prstGeom>
            <a:solidFill>
              <a:srgbClr val="46ff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88600" y="3551400"/>
              <a:ext cx="54720" cy="710640"/>
            </a:xfrm>
            <a:prstGeom prst="rect">
              <a:avLst/>
            </a:prstGeom>
            <a:solidFill>
              <a:srgbClr val="41f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43680" y="3551400"/>
              <a:ext cx="32040" cy="710640"/>
            </a:xfrm>
            <a:prstGeom prst="rect">
              <a:avLst/>
            </a:prstGeom>
            <a:solidFill>
              <a:srgbClr val="3df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175720" y="3551400"/>
              <a:ext cx="54720" cy="710640"/>
            </a:xfrm>
            <a:prstGeom prst="rect">
              <a:avLst/>
            </a:prstGeom>
            <a:solidFill>
              <a:srgbClr val="38ff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30440" y="3551400"/>
              <a:ext cx="58680" cy="710640"/>
            </a:xfrm>
            <a:prstGeom prst="rect">
              <a:avLst/>
            </a:prstGeom>
            <a:solidFill>
              <a:srgbClr val="32ff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289480" y="3551400"/>
              <a:ext cx="27720" cy="710640"/>
            </a:xfrm>
            <a:prstGeom prst="rect">
              <a:avLst/>
            </a:prstGeom>
            <a:solidFill>
              <a:srgbClr val="2ef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317560" y="3551400"/>
              <a:ext cx="54720" cy="710640"/>
            </a:xfrm>
            <a:prstGeom prst="rect">
              <a:avLst/>
            </a:prstGeom>
            <a:solidFill>
              <a:srgbClr val="2a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372280" y="3551400"/>
              <a:ext cx="26640" cy="710640"/>
            </a:xfrm>
            <a:prstGeom prst="rect">
              <a:avLst/>
            </a:prstGeom>
            <a:solidFill>
              <a:srgbClr val="26f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399280" y="3551400"/>
              <a:ext cx="58680" cy="710640"/>
            </a:xfrm>
            <a:prstGeom prst="rect">
              <a:avLst/>
            </a:prstGeom>
            <a:solidFill>
              <a:srgbClr val="21f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58320" y="3551400"/>
              <a:ext cx="54720" cy="710640"/>
            </a:xfrm>
            <a:prstGeom prst="rect">
              <a:avLst/>
            </a:prstGeom>
            <a:solidFill>
              <a:srgbClr val="1cf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513040" y="3551400"/>
              <a:ext cx="32040" cy="710640"/>
            </a:xfrm>
            <a:prstGeom prst="rect">
              <a:avLst/>
            </a:prstGeom>
            <a:solidFill>
              <a:srgbClr val="18ff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45440" y="3551400"/>
              <a:ext cx="54720" cy="710640"/>
            </a:xfrm>
            <a:prstGeom prst="rect">
              <a:avLst/>
            </a:prstGeom>
            <a:solidFill>
              <a:srgbClr val="14f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600160" y="3551400"/>
              <a:ext cx="27720" cy="710640"/>
            </a:xfrm>
            <a:prstGeom prst="rect">
              <a:avLst/>
            </a:prstGeom>
            <a:solidFill>
              <a:srgbClr val="0ff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628240" y="3551400"/>
              <a:ext cx="58680" cy="710640"/>
            </a:xfrm>
            <a:prstGeom prst="rect">
              <a:avLst/>
            </a:prstGeom>
            <a:solidFill>
              <a:srgbClr val="08ff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2573280" y="3662280"/>
            <a:ext cx="1654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603520" y="2982960"/>
            <a:ext cx="1654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305000" y="1963800"/>
            <a:ext cx="4382280" cy="732960"/>
            <a:chOff x="1305000" y="1963800"/>
            <a:chExt cx="4382280" cy="732960"/>
          </a:xfrm>
        </p:grpSpPr>
        <p:sp>
          <p:nvSpPr>
            <p:cNvPr id="501" name=""/>
            <p:cNvSpPr/>
            <p:nvPr/>
          </p:nvSpPr>
          <p:spPr>
            <a:xfrm>
              <a:off x="1305000" y="1963800"/>
              <a:ext cx="4382280" cy="7560"/>
            </a:xfrm>
            <a:prstGeom prst="rect">
              <a:avLst/>
            </a:prstGeom>
            <a:solidFill>
              <a:srgbClr val="00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05000" y="1971360"/>
              <a:ext cx="4382280" cy="17280"/>
            </a:xfrm>
            <a:prstGeom prst="rect">
              <a:avLst/>
            </a:prstGeom>
            <a:solidFill>
              <a:srgbClr val="00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05000" y="1989000"/>
              <a:ext cx="4382280" cy="7560"/>
            </a:xfrm>
            <a:prstGeom prst="rect">
              <a:avLst/>
            </a:prstGeom>
            <a:solidFill>
              <a:srgbClr val="00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05000" y="1996920"/>
              <a:ext cx="4382280" cy="7920"/>
            </a:xfrm>
            <a:prstGeom prst="rect">
              <a:avLst/>
            </a:prstGeom>
            <a:solidFill>
              <a:srgbClr val="00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05000" y="2005200"/>
              <a:ext cx="4382280" cy="169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305000" y="2022480"/>
              <a:ext cx="4382280" cy="756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305000" y="2030400"/>
              <a:ext cx="4382280" cy="17280"/>
            </a:xfrm>
            <a:prstGeom prst="rect">
              <a:avLst/>
            </a:prstGeom>
            <a:solidFill>
              <a:srgbClr val="00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305000" y="2047680"/>
              <a:ext cx="4382280" cy="7560"/>
            </a:xfrm>
            <a:prstGeom prst="rect">
              <a:avLst/>
            </a:prstGeom>
            <a:solidFill>
              <a:srgbClr val="00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05000" y="2055600"/>
              <a:ext cx="4382280" cy="7920"/>
            </a:xfrm>
            <a:prstGeom prst="rect">
              <a:avLst/>
            </a:prstGeom>
            <a:solidFill>
              <a:srgbClr val="00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05000" y="2063880"/>
              <a:ext cx="4382280" cy="169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305000" y="2081160"/>
              <a:ext cx="4382280" cy="7920"/>
            </a:xfrm>
            <a:prstGeom prst="rect">
              <a:avLst/>
            </a:prstGeom>
            <a:solidFill>
              <a:srgbClr val="00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305000" y="2089440"/>
              <a:ext cx="4382280" cy="7560"/>
            </a:xfrm>
            <a:prstGeom prst="rect">
              <a:avLst/>
            </a:prstGeom>
            <a:solidFill>
              <a:srgbClr val="00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305000" y="2097360"/>
              <a:ext cx="4382280" cy="15840"/>
            </a:xfrm>
            <a:prstGeom prst="rect">
              <a:avLst/>
            </a:prstGeom>
            <a:solidFill>
              <a:srgbClr val="00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305000" y="2113200"/>
              <a:ext cx="4382280" cy="9360"/>
            </a:xfrm>
            <a:prstGeom prst="rect">
              <a:avLst/>
            </a:pr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305000" y="2122560"/>
              <a:ext cx="4382280" cy="15840"/>
            </a:xfrm>
            <a:prstGeom prst="rect">
              <a:avLst/>
            </a:prstGeom>
            <a:solidFill>
              <a:srgbClr val="00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305000" y="2138760"/>
              <a:ext cx="4382280" cy="7560"/>
            </a:xfrm>
            <a:prstGeom prst="rect">
              <a:avLst/>
            </a:prstGeom>
            <a:solidFill>
              <a:srgbClr val="00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305000" y="2146680"/>
              <a:ext cx="4382280" cy="9360"/>
            </a:xfrm>
            <a:prstGeom prst="rect">
              <a:avLst/>
            </a:prstGeom>
            <a:solidFill>
              <a:srgbClr val="00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05000" y="2156040"/>
              <a:ext cx="4382280" cy="15840"/>
            </a:xfrm>
            <a:prstGeom prst="rect">
              <a:avLst/>
            </a:prstGeom>
            <a:solidFill>
              <a:srgbClr val="0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05000" y="2171880"/>
              <a:ext cx="4382280" cy="7560"/>
            </a:xfrm>
            <a:prstGeom prst="rect">
              <a:avLst/>
            </a:prstGeom>
            <a:solidFill>
              <a:srgbClr val="00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05000" y="2179800"/>
              <a:ext cx="4382280" cy="9360"/>
            </a:xfrm>
            <a:prstGeom prst="rect">
              <a:avLst/>
            </a:pr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305000" y="2189160"/>
              <a:ext cx="4382280" cy="15840"/>
            </a:xfrm>
            <a:prstGeom prst="rect">
              <a:avLst/>
            </a:prstGeom>
            <a:solidFill>
              <a:srgbClr val="0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05000" y="2205360"/>
              <a:ext cx="4382280" cy="7920"/>
            </a:xfrm>
            <a:prstGeom prst="rect">
              <a:avLst/>
            </a:prstGeom>
            <a:solidFill>
              <a:srgbClr val="00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305000" y="2213640"/>
              <a:ext cx="4382280" cy="16920"/>
            </a:xfrm>
            <a:prstGeom prst="rect">
              <a:avLst/>
            </a:prstGeom>
            <a:solidFill>
              <a:srgbClr val="00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305000" y="2230920"/>
              <a:ext cx="4382280" cy="7560"/>
            </a:xfrm>
            <a:prstGeom prst="rect">
              <a:avLst/>
            </a:prstGeom>
            <a:solidFill>
              <a:srgbClr val="0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05000" y="2238840"/>
              <a:ext cx="4382280" cy="7920"/>
            </a:xfrm>
            <a:prstGeom prst="rect">
              <a:avLst/>
            </a:prstGeom>
            <a:solidFill>
              <a:srgbClr val="00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305000" y="2246760"/>
              <a:ext cx="4382280" cy="16920"/>
            </a:xfrm>
            <a:prstGeom prst="rect">
              <a:avLst/>
            </a:prstGeom>
            <a:solidFill>
              <a:srgbClr val="00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305000" y="2264040"/>
              <a:ext cx="4382280" cy="7920"/>
            </a:xfrm>
            <a:prstGeom prst="rect">
              <a:avLst/>
            </a:prstGeom>
            <a:solidFill>
              <a:srgbClr val="00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05000" y="2272320"/>
              <a:ext cx="4382280" cy="7560"/>
            </a:xfrm>
            <a:prstGeom prst="rect">
              <a:avLst/>
            </a:prstGeom>
            <a:solidFill>
              <a:srgbClr val="00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05000" y="2280240"/>
              <a:ext cx="4382280" cy="16920"/>
            </a:xfrm>
            <a:prstGeom prst="rect">
              <a:avLst/>
            </a:prstGeom>
            <a:solidFill>
              <a:srgbClr val="00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305000" y="2297520"/>
              <a:ext cx="4382280" cy="7920"/>
            </a:xfrm>
            <a:prstGeom prst="rect">
              <a:avLst/>
            </a:prstGeom>
            <a:solidFill>
              <a:srgbClr val="00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305000" y="2305800"/>
              <a:ext cx="4382280" cy="15840"/>
            </a:xfrm>
            <a:prstGeom prst="rect">
              <a:avLst/>
            </a:prstGeom>
            <a:solidFill>
              <a:srgbClr val="00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05000" y="2321640"/>
              <a:ext cx="4382280" cy="9360"/>
            </a:xfrm>
            <a:prstGeom prst="rect">
              <a:avLst/>
            </a:prstGeom>
            <a:solidFill>
              <a:srgbClr val="00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05000" y="2331000"/>
              <a:ext cx="4382280" cy="7560"/>
            </a:xfrm>
            <a:prstGeom prst="rect">
              <a:avLst/>
            </a:prstGeom>
            <a:solidFill>
              <a:srgbClr val="00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05000" y="2338920"/>
              <a:ext cx="4382280" cy="15840"/>
            </a:xfrm>
            <a:prstGeom prst="rect">
              <a:avLst/>
            </a:prstGeom>
            <a:solidFill>
              <a:srgbClr val="00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05000" y="2355120"/>
              <a:ext cx="4382280" cy="9360"/>
            </a:xfrm>
            <a:prstGeom prst="rect">
              <a:avLst/>
            </a:prstGeom>
            <a:solidFill>
              <a:srgbClr val="00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305000" y="2364480"/>
              <a:ext cx="4382280" cy="7560"/>
            </a:xfrm>
            <a:prstGeom prst="rect">
              <a:avLst/>
            </a:prstGeom>
            <a:solidFill>
              <a:srgbClr val="00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305000" y="2372400"/>
              <a:ext cx="4382280" cy="15840"/>
            </a:xfrm>
            <a:prstGeom prst="rect">
              <a:avLst/>
            </a:prstGeom>
            <a:solidFill>
              <a:srgbClr val="00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305000" y="2388240"/>
              <a:ext cx="4382280" cy="7920"/>
            </a:xfrm>
            <a:prstGeom prst="rect">
              <a:avLst/>
            </a:prstGeom>
            <a:solidFill>
              <a:srgbClr val="00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305000" y="2396520"/>
              <a:ext cx="4382280" cy="16920"/>
            </a:xfrm>
            <a:prstGeom prst="rect">
              <a:avLst/>
            </a:prstGeom>
            <a:solidFill>
              <a:srgbClr val="00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305000" y="2413800"/>
              <a:ext cx="4382280" cy="7920"/>
            </a:xfrm>
            <a:prstGeom prst="rect">
              <a:avLst/>
            </a:prstGeom>
            <a:solidFill>
              <a:srgbClr val="00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305000" y="2422080"/>
              <a:ext cx="4382280" cy="7560"/>
            </a:xfrm>
            <a:prstGeom prst="rect">
              <a:avLst/>
            </a:prstGeom>
            <a:solidFill>
              <a:srgbClr val="0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305000" y="2429640"/>
              <a:ext cx="4382280" cy="16920"/>
            </a:xfrm>
            <a:prstGeom prst="rect">
              <a:avLst/>
            </a:prstGeom>
            <a:solidFill>
              <a:srgbClr val="00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05000" y="2446920"/>
              <a:ext cx="4382280" cy="7920"/>
            </a:xfrm>
            <a:prstGeom prst="rect">
              <a:avLst/>
            </a:prstGeom>
            <a:solidFill>
              <a:srgbClr val="00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305000" y="2455200"/>
              <a:ext cx="4382280" cy="7560"/>
            </a:xfrm>
            <a:prstGeom prst="rect">
              <a:avLst/>
            </a:prstGeom>
            <a:solidFill>
              <a:srgbClr val="00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05000" y="2463120"/>
              <a:ext cx="4382280" cy="17280"/>
            </a:xfrm>
            <a:prstGeom prst="rect">
              <a:avLst/>
            </a:prstGeom>
            <a:solidFill>
              <a:srgbClr val="00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305000" y="2480760"/>
              <a:ext cx="4382280" cy="7560"/>
            </a:xfrm>
            <a:prstGeom prst="rect">
              <a:avLst/>
            </a:prstGeom>
            <a:solidFill>
              <a:srgbClr val="00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05000" y="2488680"/>
              <a:ext cx="4382280" cy="16920"/>
            </a:xfrm>
            <a:prstGeom prst="rect">
              <a:avLst/>
            </a:prstGeom>
            <a:solidFill>
              <a:srgbClr val="0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305000" y="2505960"/>
              <a:ext cx="4382280" cy="7920"/>
            </a:xfrm>
            <a:prstGeom prst="rect">
              <a:avLst/>
            </a:prstGeom>
            <a:solidFill>
              <a:srgbClr val="00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305000" y="2513880"/>
              <a:ext cx="4382280" cy="7560"/>
            </a:xfrm>
            <a:prstGeom prst="rect">
              <a:avLst/>
            </a:prstGeom>
            <a:solidFill>
              <a:srgbClr val="00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305000" y="2521800"/>
              <a:ext cx="4382280" cy="15840"/>
            </a:xfrm>
            <a:prstGeom prst="rect">
              <a:avLst/>
            </a:prstGeom>
            <a:solidFill>
              <a:srgbClr val="00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305000" y="2538000"/>
              <a:ext cx="4382280" cy="9360"/>
            </a:xfrm>
            <a:prstGeom prst="rect">
              <a:avLst/>
            </a:pr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05000" y="2547360"/>
              <a:ext cx="4382280" cy="7560"/>
            </a:xfrm>
            <a:prstGeom prst="rect">
              <a:avLst/>
            </a:prstGeom>
            <a:solidFill>
              <a:srgbClr val="00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305000" y="2555280"/>
              <a:ext cx="4382280" cy="15840"/>
            </a:xfrm>
            <a:prstGeom prst="rect">
              <a:avLst/>
            </a:prstGeom>
            <a:solidFill>
              <a:srgbClr val="00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305000" y="2571120"/>
              <a:ext cx="4382280" cy="9360"/>
            </a:xfrm>
            <a:prstGeom prst="rect">
              <a:avLst/>
            </a:prstGeom>
            <a:solidFill>
              <a:srgbClr val="00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305000" y="2580840"/>
              <a:ext cx="4382280" cy="158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305000" y="2596680"/>
              <a:ext cx="4382280" cy="7920"/>
            </a:xfrm>
            <a:prstGeom prst="rect">
              <a:avLst/>
            </a:prstGeom>
            <a:solidFill>
              <a:srgbClr val="00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305000" y="2604960"/>
              <a:ext cx="4382280" cy="9360"/>
            </a:xfrm>
            <a:prstGeom prst="rect">
              <a:avLst/>
            </a:prstGeom>
            <a:solidFill>
              <a:srgbClr val="00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05000" y="2614320"/>
              <a:ext cx="4382280" cy="15480"/>
            </a:xfrm>
            <a:prstGeom prst="rect">
              <a:avLst/>
            </a:prstGeom>
            <a:solidFill>
              <a:srgbClr val="00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305000" y="2630160"/>
              <a:ext cx="4382280" cy="792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305000" y="2638080"/>
              <a:ext cx="4382280" cy="7560"/>
            </a:xfrm>
            <a:prstGeom prst="rect">
              <a:avLst/>
            </a:prstGeom>
            <a:solidFill>
              <a:srgbClr val="00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305000" y="2646000"/>
              <a:ext cx="4382280" cy="17280"/>
            </a:xfrm>
            <a:prstGeom prst="rect">
              <a:avLst/>
            </a:prstGeom>
            <a:solidFill>
              <a:srgbClr val="00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305000" y="2663640"/>
              <a:ext cx="4382280" cy="7560"/>
            </a:xfrm>
            <a:prstGeom prst="rect">
              <a:avLst/>
            </a:prstGeom>
            <a:solidFill>
              <a:srgbClr val="00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305000" y="2671560"/>
              <a:ext cx="4382280" cy="16920"/>
            </a:xfrm>
            <a:prstGeom prst="rect">
              <a:avLst/>
            </a:prstGeom>
            <a:solidFill>
              <a:srgbClr val="00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305000" y="2688840"/>
              <a:ext cx="4382280" cy="7920"/>
            </a:xfrm>
            <a:prstGeom prst="rect">
              <a:avLst/>
            </a:prstGeom>
            <a:solidFill>
              <a:srgbClr val="00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281240" y="1963800"/>
            <a:ext cx="1440" cy="4075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216080" y="6039000"/>
            <a:ext cx="65160" cy="2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216080" y="5357880"/>
            <a:ext cx="651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16080" y="4676760"/>
            <a:ext cx="651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16080" y="4008600"/>
            <a:ext cx="651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16080" y="3325680"/>
            <a:ext cx="65160" cy="3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16080" y="2644920"/>
            <a:ext cx="651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216080" y="1963800"/>
            <a:ext cx="651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281240" y="6108840"/>
            <a:ext cx="69627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1281240" y="6039000"/>
            <a:ext cx="1440" cy="93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044720" y="5913360"/>
            <a:ext cx="12708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66000" y="5232240"/>
            <a:ext cx="5065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66000" y="4551480"/>
            <a:ext cx="5065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66000" y="3879720"/>
            <a:ext cx="5065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3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6000" y="3198960"/>
            <a:ext cx="5065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4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6000" y="2519280"/>
            <a:ext cx="5065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5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6000" y="1838160"/>
            <a:ext cx="5065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6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219760" y="6305400"/>
            <a:ext cx="267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DIDAS EFECTIV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305000" y="5356800"/>
            <a:ext cx="40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80808"/>
                </a:solidFill>
                <a:latin typeface="Arial"/>
              </a:rPr>
              <a:t>COMPRAS DE ENERG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305000" y="2823480"/>
            <a:ext cx="41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80808"/>
                </a:solidFill>
                <a:latin typeface="Arial"/>
              </a:rPr>
              <a:t>NUEVAS INSTAL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80808"/>
                </a:solidFill>
                <a:latin typeface="Arial"/>
              </a:rPr>
              <a:t>TÉRM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56200" y="135180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GW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27240" y="3650760"/>
            <a:ext cx="420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80808"/>
                </a:solidFill>
                <a:latin typeface="Arial"/>
              </a:rPr>
              <a:t>RECUPERACIÓN DEL PARQUE TÉRM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382760" y="2157840"/>
            <a:ext cx="39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80808"/>
                </a:solidFill>
                <a:latin typeface="Arial"/>
              </a:rPr>
              <a:t>AHORRO DE ENERG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305000" y="4241880"/>
            <a:ext cx="4383000" cy="10872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e0f2f2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80808"/>
                </a:solidFill>
                <a:latin typeface="Arial"/>
              </a:rPr>
              <a:t>ALQUILER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80808"/>
                </a:solidFill>
                <a:latin typeface="Arial"/>
              </a:rPr>
              <a:t>GENERACIÓN PORTÁT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0" y="7583400"/>
            <a:ext cx="1015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-25560" y="44280"/>
            <a:ext cx="913464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RECURSOS NECESARI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63680" y="787320"/>
            <a:ext cx="8502480" cy="2541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63680" y="1028880"/>
            <a:ext cx="8502480" cy="1002960"/>
          </a:xfrm>
          <a:prstGeom prst="rect">
            <a:avLst/>
          </a:pr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720" y="801720"/>
            <a:ext cx="2676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RECUPERACIÓN PARQUE TÉRMI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130640" y="801720"/>
            <a:ext cx="1263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RESPONS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994000" y="801720"/>
            <a:ext cx="1558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RECURSOS (MMUS$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079840" y="801720"/>
            <a:ext cx="5248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FECH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71120" y="1041480"/>
            <a:ext cx="25808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800 MW EN PLANTA CENTR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445640" y="1041480"/>
            <a:ext cx="739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DAF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547680" y="104148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30840" y="1041480"/>
            <a:ext cx="11102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Febrero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86960" y="1282680"/>
            <a:ext cx="26906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20 MW EN ANACO Y GUANT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442400" y="1282680"/>
            <a:ext cx="739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DAF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633720" y="128268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451640" y="1292400"/>
            <a:ext cx="1420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iciembre-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91640" y="1522440"/>
            <a:ext cx="2891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12 MW EN PTO FIJO Y TÁCHIR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42400" y="1522440"/>
            <a:ext cx="739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DAF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547680" y="152244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484400" y="1522440"/>
            <a:ext cx="13190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iciembre-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05680" y="1763640"/>
            <a:ext cx="2256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00 MW  EN SAN AGAT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442400" y="1763640"/>
            <a:ext cx="739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DAF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654240" y="176364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953840" y="1763640"/>
            <a:ext cx="863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bril-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966160" y="78732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966160" y="102888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966160" y="126828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966160" y="1173240"/>
            <a:ext cx="12600" cy="14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966160" y="15098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966160" y="17496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25520" y="3716280"/>
            <a:ext cx="8502480" cy="358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25520" y="4075200"/>
            <a:ext cx="8502480" cy="893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074960" y="3832200"/>
            <a:ext cx="1771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COMPRAS DE ENERGÍ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010760" y="3832200"/>
            <a:ext cx="1263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RESPONS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38720" y="3832200"/>
            <a:ext cx="5248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FECH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17400" y="4170240"/>
            <a:ext cx="19101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60 MW A COLOMBI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484800" y="4170240"/>
            <a:ext cx="2318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M-CADAFE-EDELCA-M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597000" y="417024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728480" y="4170240"/>
            <a:ext cx="9608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nero-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84000" y="4456080"/>
            <a:ext cx="2315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40 MW EN TURBO/GENE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71240" y="4456080"/>
            <a:ext cx="13143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M - CADAF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597000" y="445608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728480" y="4456080"/>
            <a:ext cx="9608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nero-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37560" y="4724280"/>
            <a:ext cx="17334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DICIONAL E. DE C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90000" y="4724280"/>
            <a:ext cx="20034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M-CADAFE-EDEL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597000" y="472428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928000" y="3716280"/>
            <a:ext cx="32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928000" y="4156200"/>
            <a:ext cx="32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928000" y="4411800"/>
            <a:ext cx="3240" cy="28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928000" y="4699080"/>
            <a:ext cx="32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928000" y="4846680"/>
            <a:ext cx="32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5280" y="2395440"/>
            <a:ext cx="8588520" cy="358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95280" y="2754360"/>
            <a:ext cx="8588520" cy="57456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9120" y="2414520"/>
            <a:ext cx="2964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INCORPORACIÓN NUEVA GENE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38560" y="2414520"/>
            <a:ext cx="1263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RESPONS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010000" y="2414520"/>
            <a:ext cx="5248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FECH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23880" y="2813040"/>
            <a:ext cx="1878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300 MW TERMOZUL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458240" y="2813040"/>
            <a:ext cx="8406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ENELV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526440" y="281304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985160" y="2813040"/>
            <a:ext cx="854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Abril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5840" y="3090960"/>
            <a:ext cx="2184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95 MW TERMOYARACU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76600" y="3090960"/>
            <a:ext cx="8114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PRIV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634080" y="3090960"/>
            <a:ext cx="387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58(*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740720" y="3068640"/>
            <a:ext cx="1270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Enero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983800" y="2395440"/>
            <a:ext cx="1440" cy="32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983800" y="2428920"/>
            <a:ext cx="12600" cy="19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983800" y="269064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983800" y="2786040"/>
            <a:ext cx="12600" cy="1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983800" y="275436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983800" y="3017880"/>
            <a:ext cx="1260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8983800" y="295920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983800" y="3222720"/>
            <a:ext cx="1260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983800" y="325296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983800" y="3252960"/>
            <a:ext cx="1260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772400" y="4724280"/>
            <a:ext cx="955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Junio-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200560" y="1936800"/>
            <a:ext cx="181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INVERSIÓN: 10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076720" y="32338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INVERSIÓN : 16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88000" y="489420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GASTO ANUAL: 16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967960" y="7101000"/>
            <a:ext cx="288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34880" y="5300640"/>
            <a:ext cx="8588520" cy="360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34880" y="5661000"/>
            <a:ext cx="8588520" cy="34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146960" y="5353200"/>
            <a:ext cx="21524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ALQUILER DE  GENE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356000" y="5353200"/>
            <a:ext cx="1263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RESPONS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049960" y="5353200"/>
            <a:ext cx="5248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FECH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9023400" y="5300640"/>
            <a:ext cx="1440" cy="32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023400" y="559584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023400" y="5691240"/>
            <a:ext cx="1260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9023400" y="566100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9023400" y="586584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9023400" y="615960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9023400" y="6364440"/>
            <a:ext cx="1260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11640" y="2416320"/>
            <a:ext cx="1558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RECURSOS (MMUS$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11640" y="3828960"/>
            <a:ext cx="1558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RECURSOS (MMUS$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859280" y="591012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GASTO ANUAL: 2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60880" y="5756400"/>
            <a:ext cx="18403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500 MW PORTÁTI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060720" y="5756400"/>
            <a:ext cx="3030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EM-CADAFE-ENELVEN-ENELB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608880" y="575640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2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897760" y="5729400"/>
            <a:ext cx="1296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897760" y="569736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897760" y="590220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84360" y="5373720"/>
            <a:ext cx="1558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RECURSOS (MMUS$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592400" y="5759280"/>
            <a:ext cx="1357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noviembre-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708360" y="630864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OTAL RECURSOS :  664 MMUS$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-177840" y="7391520"/>
            <a:ext cx="1015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-25560" y="44280"/>
            <a:ext cx="913464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BALANCE ENERGÉTICO 2001-202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214200" y="1035000"/>
          <a:ext cx="8929800" cy="5823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200" y="1035000"/>
                    <a:ext cx="892980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6" name=""/>
          <p:cNvSpPr/>
          <p:nvPr/>
        </p:nvSpPr>
        <p:spPr>
          <a:xfrm>
            <a:off x="1012680" y="5996160"/>
            <a:ext cx="846360" cy="252360"/>
          </a:xfrm>
          <a:prstGeom prst="rect">
            <a:avLst/>
          </a:prstGeom>
          <a:solidFill>
            <a:srgbClr val="2b54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Arial"/>
              </a:rPr>
              <a:t>1.000 MW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734000" y="5991120"/>
            <a:ext cx="4163760" cy="257400"/>
          </a:xfrm>
          <a:prstGeom prst="rect">
            <a:avLst/>
          </a:prstGeom>
          <a:solidFill>
            <a:srgbClr val="2b54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Arial"/>
              </a:rPr>
              <a:t>9.500 MW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865160" y="5992920"/>
            <a:ext cx="2865600" cy="25560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09800" y="5999040"/>
            <a:ext cx="99864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Arial"/>
              </a:rPr>
              <a:t>2.900 MW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122960" y="4854600"/>
            <a:ext cx="19242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b5481"/>
                </a:solidFill>
                <a:latin typeface="Arial"/>
              </a:rPr>
              <a:t>Hidro Firme Actu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104240" y="4260960"/>
            <a:ext cx="1923840" cy="29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b5481"/>
                </a:solidFill>
                <a:latin typeface="Arial"/>
              </a:rPr>
              <a:t>Hidro Firme Futu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370640" y="4041720"/>
            <a:ext cx="18036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b5481"/>
                </a:solidFill>
                <a:latin typeface="Arial"/>
              </a:rPr>
              <a:t>Térmico Actu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059520" y="3787920"/>
            <a:ext cx="303048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b5481"/>
                </a:solidFill>
                <a:latin typeface="Arial"/>
              </a:rPr>
              <a:t>Térmico Actual Rehabili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086520" y="3021120"/>
            <a:ext cx="2962080" cy="33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b5481"/>
                </a:solidFill>
                <a:latin typeface="Arial"/>
              </a:rPr>
              <a:t>Requerimientos adicion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8150400" y="2560320"/>
            <a:ext cx="0" cy="5014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8150400" y="3294000"/>
            <a:ext cx="0" cy="5922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393920" y="2565360"/>
            <a:ext cx="2643120" cy="58068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Requerimientos en caso de hidrología se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930400" y="3216240"/>
            <a:ext cx="695520" cy="6174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924360" y="645336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REQUERIMIENT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1824120" y="4591080"/>
            <a:ext cx="0" cy="387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824120" y="5187960"/>
            <a:ext cx="0" cy="39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297080" y="4923000"/>
            <a:ext cx="988920" cy="31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b5481"/>
                </a:solidFill>
                <a:latin typeface="Arial"/>
              </a:rPr>
              <a:t>Caruach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674800" y="4437000"/>
            <a:ext cx="0" cy="5349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74800" y="5181480"/>
            <a:ext cx="0" cy="39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59000" y="4916520"/>
            <a:ext cx="988920" cy="3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b5481"/>
                </a:solidFill>
                <a:latin typeface="Arial"/>
              </a:rPr>
              <a:t>Vuelto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764240" y="4430520"/>
            <a:ext cx="0" cy="360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745160" y="5253120"/>
            <a:ext cx="19080" cy="3175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211640" y="4849920"/>
            <a:ext cx="1152360" cy="30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b5481"/>
                </a:solidFill>
                <a:latin typeface="Arial"/>
              </a:rPr>
              <a:t>Toco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109520" y="6230880"/>
            <a:ext cx="98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Arial"/>
              </a:rPr>
              <a:t>CORTO PLAZ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39880" y="6227640"/>
            <a:ext cx="1202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Arial"/>
              </a:rPr>
              <a:t>MEDIANO PLAZ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307200" y="6227640"/>
            <a:ext cx="966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Arial"/>
              </a:rPr>
              <a:t>LARGO PLAZ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52360" y="836640"/>
            <a:ext cx="58608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GW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816440" y="2646360"/>
            <a:ext cx="695520" cy="6174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203720" y="2052720"/>
            <a:ext cx="2313000" cy="58068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urva de Demanda (4,5% de Crecimient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0" y="7583400"/>
            <a:ext cx="1015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-25560" y="115920"/>
            <a:ext cx="913464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SOLUCIONES ESTRUCTUR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2"/>
          <a:srcRect l="6422" t="11421" r="32230" b="8193"/>
          <a:stretch/>
        </p:blipFill>
        <p:spPr>
          <a:xfrm>
            <a:off x="5364000" y="1057320"/>
            <a:ext cx="3780000" cy="548640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-457200" y="981000"/>
            <a:ext cx="5791320" cy="53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IMPLANTACIÓN DE LA 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1360" indent="-254160" algn="just">
              <a:lnSpc>
                <a:spcPct val="120000"/>
              </a:lnSpc>
              <a:spcBef>
                <a:spcPts val="1250"/>
              </a:spcBef>
              <a:buClr>
                <a:srgbClr val="2b5481"/>
              </a:buClr>
              <a:buSzPct val="105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REACIÓN DE LA COMISIÓN NACIONAL DE ENERGÍA ELÉCTRICA (CNEE) Y DEL CENTRO NACIONAL DE GESTIÓN DEL SISTEMA ELÉCTRICO (CNGS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1360" indent="-254160" algn="just">
              <a:lnSpc>
                <a:spcPct val="120000"/>
              </a:lnSpc>
              <a:spcBef>
                <a:spcPts val="1250"/>
              </a:spcBef>
              <a:buClr>
                <a:srgbClr val="2b5481"/>
              </a:buClr>
              <a:buSzPct val="105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EGLAMENTACIÓN DE LA LEY (EN PARTICULAR EL RÉGIMEN ECONÓMIC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1360" indent="-254160" algn="just">
              <a:lnSpc>
                <a:spcPct val="120000"/>
              </a:lnSpc>
              <a:spcBef>
                <a:spcPts val="1250"/>
              </a:spcBef>
              <a:buClr>
                <a:srgbClr val="2b5481"/>
              </a:buClr>
              <a:buSzPct val="105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REACIÓN DE LAS CONDICIONES PARA LA DESVERTICALIZACIÓN DE LAS EMPRESAS (TARIFAS DE CADA ACTIVIDA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7583400"/>
            <a:ext cx="1015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-25560" y="115920"/>
            <a:ext cx="913464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SOLUCIONES ESTRUCTUR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2"/>
          <a:srcRect l="22288" t="5599" r="25178" b="9788"/>
          <a:stretch/>
        </p:blipFill>
        <p:spPr>
          <a:xfrm>
            <a:off x="3863880" y="987480"/>
            <a:ext cx="5280120" cy="58672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34920" y="836640"/>
            <a:ext cx="8915400" cy="56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REESTRUCTURACIÓN EMPRESAS ELÉCTR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5320">
              <a:lnSpc>
                <a:spcPct val="90000"/>
              </a:lnSpc>
              <a:spcBef>
                <a:spcPts val="1375"/>
              </a:spcBef>
              <a:buClr>
                <a:srgbClr val="003366"/>
              </a:buClr>
              <a:buFont typeface="Wingdings" charset="2"/>
              <a:buChar char="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REAR LAS EMPRESAS NECESARIAS PARA SEPARAR LAS ACTIVIDADES DE GENERACIÓN, TRANSMISIÓN Y DISTRIBUCIÓN, TAL COMO LO INDICA LA LEY ORGÁNICA DEL SERVICIO ELÉCTRIC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5320" algn="just">
              <a:lnSpc>
                <a:spcPct val="90000"/>
              </a:lnSpc>
              <a:spcBef>
                <a:spcPts val="1375"/>
              </a:spcBef>
              <a:buClr>
                <a:srgbClr val="003366"/>
              </a:buClr>
              <a:buFont typeface="Wingdings" charset="2"/>
              <a:buChar char="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OTORGAR AUTONOMÍA OPERATIVA, ECONÓMICA Y FINANCIERA A LAS  EMPRESAS DISTRIBUIDORAS DEL ESTAD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5320" algn="just"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Wingdings" charset="2"/>
              <a:buChar char="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REAR CONDICIONES PARA LA INYECCIÓN DE LOS CAPITALES REQUERIDOS POR LAS EMPRESAS ELÉCTRICAS DEL ESTAD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5320" algn="just"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Wingdings" charset="2"/>
              <a:buChar char="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INSTAURAR PLANES DE APOYO A LA GESTIÓN COMERCIAL DE LAS EMPRESAS DISTRIBUIDORAS A OBJETO DE LOGRAR UNA REDUCCIÓN SUSTANCIAL DE LAS PÉRDIDAS ELÉCTRIC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0" y="7583400"/>
            <a:ext cx="1015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-25560" y="115920"/>
            <a:ext cx="913464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SOLUCIONES ESTRUCTUR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2"/>
          <a:srcRect l="22288" t="5599" r="25178" b="9788"/>
          <a:stretch/>
        </p:blipFill>
        <p:spPr>
          <a:xfrm>
            <a:off x="3971880" y="692280"/>
            <a:ext cx="5280120" cy="586728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108000" y="1268280"/>
            <a:ext cx="8712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FINANCIE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28480" indent="-264960" algn="just">
              <a:lnSpc>
                <a:spcPct val="11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AGO DE ACREENCIAS DEL ESTADO CON LAS EMPRESAS ELÉCTR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8480" indent="-264960" algn="just">
              <a:lnSpc>
                <a:spcPct val="11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AGO DE LAS ACREENCIAS INTEREMPRE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8480" indent="-264960" algn="just">
              <a:lnSpc>
                <a:spcPct val="11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REACIÓN DE MECANISMOS PARA EVITAR LA REGENERACIÓN DE DEUDAS DEL ESTADO CON LAS EMPRESAS ELÉCTRICAS Y DE ESTAS ENTRE S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8480" indent="-264960" algn="just">
              <a:lnSpc>
                <a:spcPct val="11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PORTES DE RECURSOS</a:t>
            </a:r>
            <a:r>
              <a:rPr b="1" lang="es-C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L ESTADO PARA EL PERIODO DE TRAN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25560" y="44280"/>
            <a:ext cx="913464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OP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4360" y="836640"/>
            <a:ext cx="8064360" cy="1728720"/>
            <a:chOff x="684360" y="836640"/>
            <a:chExt cx="8064360" cy="1728720"/>
          </a:xfrm>
        </p:grpSpPr>
        <p:sp>
          <p:nvSpPr>
            <p:cNvPr id="108" name=""/>
            <p:cNvSpPr/>
            <p:nvPr/>
          </p:nvSpPr>
          <p:spPr>
            <a:xfrm>
              <a:off x="684360" y="836640"/>
              <a:ext cx="8064360" cy="1728720"/>
            </a:xfrm>
            <a:prstGeom prst="flowChartOffpageConnector">
              <a:avLst/>
            </a:prstGeom>
            <a:solidFill>
              <a:srgbClr val="dddddd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917640" y="909360"/>
              <a:ext cx="7543800" cy="1326960"/>
              <a:chOff x="917640" y="909360"/>
              <a:chExt cx="7543800" cy="132696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917640" y="909360"/>
                <a:ext cx="1295280" cy="1326960"/>
                <a:chOff x="917640" y="909360"/>
                <a:chExt cx="1295280" cy="1326960"/>
              </a:xfrm>
            </p:grpSpPr>
            <p:pic>
              <p:nvPicPr>
                <p:cNvPr id="11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122480" y="909360"/>
                  <a:ext cx="885600" cy="82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" name=""/>
                <p:cNvSpPr/>
                <p:nvPr/>
              </p:nvSpPr>
              <p:spPr>
                <a:xfrm>
                  <a:off x="917640" y="183744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3366"/>
                      </a:solidFill>
                      <a:latin typeface="Times New Roman"/>
                    </a:rPr>
                    <a:t>CADAF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898720" y="909360"/>
                <a:ext cx="1295640" cy="1326960"/>
                <a:chOff x="2898720" y="909360"/>
                <a:chExt cx="1295640" cy="1326960"/>
              </a:xfrm>
            </p:grpSpPr>
            <p:pic>
              <p:nvPicPr>
                <p:cNvPr id="11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38480" y="909360"/>
                  <a:ext cx="814320" cy="82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" name=""/>
                <p:cNvSpPr/>
                <p:nvPr/>
              </p:nvSpPr>
              <p:spPr>
                <a:xfrm>
                  <a:off x="2898720" y="1837440"/>
                  <a:ext cx="129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3366"/>
                      </a:solidFill>
                      <a:latin typeface="Times New Roman"/>
                    </a:rPr>
                    <a:t>EDELCA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880160" y="909360"/>
                <a:ext cx="1295280" cy="1326960"/>
                <a:chOff x="4880160" y="909360"/>
                <a:chExt cx="1295280" cy="1326960"/>
              </a:xfrm>
            </p:grpSpPr>
            <p:pic>
              <p:nvPicPr>
                <p:cNvPr id="11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095800" y="909360"/>
                  <a:ext cx="865440" cy="817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"/>
                <p:cNvSpPr/>
                <p:nvPr/>
              </p:nvSpPr>
              <p:spPr>
                <a:xfrm>
                  <a:off x="4880160" y="183744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3366"/>
                      </a:solidFill>
                      <a:latin typeface="Times New Roman"/>
                    </a:rPr>
                    <a:t>E. DE C.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7013520" y="909360"/>
                <a:ext cx="1447920" cy="1326960"/>
                <a:chOff x="7013520" y="909360"/>
                <a:chExt cx="1447920" cy="13269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7013520" y="1837440"/>
                  <a:ext cx="144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3366"/>
                      </a:solidFill>
                      <a:latin typeface="Times New Roman"/>
                    </a:rPr>
                    <a:t>ENELVE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2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42120" y="909360"/>
                  <a:ext cx="857520" cy="847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22" name=""/>
          <p:cNvSpPr/>
          <p:nvPr/>
        </p:nvSpPr>
        <p:spPr>
          <a:xfrm>
            <a:off x="757080" y="2778120"/>
            <a:ext cx="7991640" cy="57996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Arial Black"/>
              </a:rPr>
              <a:t>ORGANISMO COORDINAD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5740560"/>
            <a:ext cx="2755800" cy="824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80808"/>
                </a:solidFill>
                <a:latin typeface="Arial Black"/>
              </a:rPr>
              <a:t>SISTEMA DE GENER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80000" y="5554800"/>
            <a:ext cx="3124440" cy="824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80808"/>
                </a:solidFill>
                <a:latin typeface="Arial Black"/>
              </a:rPr>
              <a:t>RED TRONCAL DE TRANSM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800000">
            <a:off x="5737320" y="3898440"/>
            <a:ext cx="1427040" cy="1251000"/>
          </a:xfrm>
          <a:custGeom>
            <a:avLst/>
            <a:gdLst>
              <a:gd name="textAreaLeft" fmla="*/ 475560 w 1427040"/>
              <a:gd name="textAreaRight" fmla="*/ 1222200 w 1427040"/>
              <a:gd name="textAreaTop" fmla="*/ 720360 h 1251000"/>
              <a:gd name="textAreaBottom" fmla="*/ 1071720 h 1251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0800000">
            <a:off x="2136240" y="3898440"/>
            <a:ext cx="1427400" cy="1251000"/>
          </a:xfrm>
          <a:custGeom>
            <a:avLst/>
            <a:gdLst>
              <a:gd name="textAreaLeft" fmla="*/ 475920 w 1427400"/>
              <a:gd name="textAreaRight" fmla="*/ 1222560 w 1427400"/>
              <a:gd name="textAreaTop" fmla="*/ 720360 h 1251000"/>
              <a:gd name="textAreaBottom" fmla="*/ 1071720 h 1251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995640" y="3357720"/>
            <a:ext cx="1440000" cy="1995840"/>
            <a:chOff x="3995640" y="3357720"/>
            <a:chExt cx="1440000" cy="1995840"/>
          </a:xfrm>
        </p:grpSpPr>
        <p:sp>
          <p:nvSpPr>
            <p:cNvPr id="128" name=""/>
            <p:cNvSpPr/>
            <p:nvPr/>
          </p:nvSpPr>
          <p:spPr>
            <a:xfrm>
              <a:off x="3995640" y="3357720"/>
              <a:ext cx="1440000" cy="1942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3995640" y="3419640"/>
              <a:ext cx="1440000" cy="1933920"/>
              <a:chOff x="3995640" y="3419640"/>
              <a:chExt cx="1440000" cy="1933920"/>
            </a:xfrm>
          </p:grpSpPr>
          <p:graphicFrame>
            <p:nvGraphicFramePr>
              <p:cNvPr id="130" name=""/>
              <p:cNvGraphicFramePr/>
              <p:nvPr/>
            </p:nvGraphicFramePr>
            <p:xfrm>
              <a:off x="4046400" y="3419640"/>
              <a:ext cx="1368720" cy="137772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31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4046400" y="3419640"/>
                        <a:ext cx="1368720" cy="1377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2" name=""/>
              <p:cNvSpPr/>
              <p:nvPr/>
            </p:nvSpPr>
            <p:spPr>
              <a:xfrm>
                <a:off x="3995640" y="4772160"/>
                <a:ext cx="1440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200" spc="-1" strike="noStrike">
                    <a:solidFill>
                      <a:srgbClr val="990033"/>
                    </a:solidFill>
                    <a:latin typeface="Arial"/>
                  </a:rPr>
                  <a:t>OPSIS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0" y="7583400"/>
            <a:ext cx="1015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-25560" y="115920"/>
            <a:ext cx="913464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SOLUCIONES ESTRUCTUR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2"/>
          <a:srcRect l="22288" t="5599" r="25178" b="9788"/>
          <a:stretch/>
        </p:blipFill>
        <p:spPr>
          <a:xfrm>
            <a:off x="3971880" y="692280"/>
            <a:ext cx="5280120" cy="586728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108000" y="1125360"/>
            <a:ext cx="871200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28480" indent="-264960"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PLANIFICACIÓN ELÉCTRICA Y ENERGÉ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28480" indent="-264960" algn="just">
              <a:lnSpc>
                <a:spcPct val="11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ABORAR EL PLAN DE EXPANSIÓN DE GENERACIÓN TÉRMICA, BASADO EN POLÍTICAS PÚBLICAS QUE PROMUEVAN LA INVERSIÓN PRIV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8480" indent="-264960" algn="just">
              <a:lnSpc>
                <a:spcPct val="11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FINIR LA POLÍTICA ENERGÉTICA ASOCIADA AL SECTOR ELÉCTRICO, EN LO QUE CONCIERNE A LA PARTICIPACIÓN DE LAS DIFERENTES ENERGÍAS PRIMARIAS A USAR EN EL FUTURO (HIDROELÉCTRICA, GAS, CARBÓN, BITUMEN, ORIMULSIÓN, COMBUSTIBLES LÍQUIDOS). IDENTIFICACIÓN DE LA DISPONIBILIDAD EN CADA REGIÓN Y PREC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8480" indent="-264960" algn="just">
              <a:lnSpc>
                <a:spcPct val="11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TABLECER LOS MECANISMOS QUE PERMITAN ASEGURAR EL SUMINISTRO CONFIABLE DE LOS VÓLUMENES DE COMBUSTIBLES FÓSILES REQUERIDOS POR  LAS PLANTAS TÉRMICA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-25560" y="44280"/>
            <a:ext cx="913464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DISEÑO DEL SISTEMA DE GENER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7583400"/>
            <a:ext cx="1015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19120" y="907920"/>
            <a:ext cx="8229600" cy="5667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771640" y="806400"/>
            <a:ext cx="4176720" cy="1006560"/>
          </a:xfrm>
          <a:prstGeom prst="ellips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79000" y="998640"/>
            <a:ext cx="382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MINISTRO DEL CONSUM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ENERGÍA ELÉCT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2880360"/>
            <a:ext cx="3038400" cy="978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0 %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DE LA CAPACIDAD INSTALADA E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MOELECT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2899440"/>
            <a:ext cx="3024000" cy="97812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 %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DE LA CAPAC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STALADA E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DROELECT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9080000">
            <a:off x="1978200" y="2112480"/>
            <a:ext cx="1657080" cy="328680"/>
          </a:xfrm>
          <a:prstGeom prst="ellipse">
            <a:avLst/>
          </a:prstGeom>
          <a:solidFill>
            <a:srgbClr val="ffcc00">
              <a:alpha val="32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2644200">
            <a:off x="5873400" y="2163240"/>
            <a:ext cx="1657440" cy="328680"/>
          </a:xfrm>
          <a:prstGeom prst="ellipse">
            <a:avLst/>
          </a:prstGeom>
          <a:solidFill>
            <a:srgbClr val="ffcc00">
              <a:alpha val="32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195640" y="1699920"/>
            <a:ext cx="5034600" cy="1152360"/>
            <a:chOff x="2195640" y="1699920"/>
            <a:chExt cx="5034600" cy="1152360"/>
          </a:xfrm>
        </p:grpSpPr>
        <p:sp>
          <p:nvSpPr>
            <p:cNvPr id="143" name=""/>
            <p:cNvSpPr/>
            <p:nvPr/>
          </p:nvSpPr>
          <p:spPr>
            <a:xfrm flipV="1">
              <a:off x="2195640" y="1699920"/>
              <a:ext cx="1218960" cy="1143000"/>
            </a:xfrm>
            <a:prstGeom prst="line">
              <a:avLst/>
            </a:prstGeom>
            <a:ln w="57240">
              <a:solidFill>
                <a:srgbClr val="11111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079320" y="1699920"/>
              <a:ext cx="1150920" cy="1152360"/>
            </a:xfrm>
            <a:prstGeom prst="line">
              <a:avLst/>
            </a:prstGeom>
            <a:ln w="57240">
              <a:solidFill>
                <a:srgbClr val="11111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403280" y="4508640"/>
            <a:ext cx="6624720" cy="1151640"/>
          </a:xfrm>
          <a:prstGeom prst="rect">
            <a:avLst/>
          </a:prstGeom>
          <a:solidFill>
            <a:srgbClr val="ccff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990033"/>
                </a:solidFill>
                <a:uFillTx/>
                <a:latin typeface="Arial"/>
              </a:rPr>
              <a:t>ENERGIA GENERABLE POR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TÉRMICA: 43.500 GWh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HIDRO: 54.500 GWh (año seco) / 64.500 GWh (promedi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7583400"/>
            <a:ext cx="1015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25560" y="44280"/>
            <a:ext cx="913464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400" spc="-1" strike="noStrike">
                <a:solidFill>
                  <a:srgbClr val="ffffff"/>
                </a:solidFill>
                <a:latin typeface="Tahoma"/>
              </a:rPr>
              <a:t>SUMINISTRO DE LA DEMANDA DE ENERGÍA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98560" y="1322280"/>
          <a:ext cx="7489800" cy="494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8560" y="1322280"/>
                    <a:ext cx="748980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966960" y="981000"/>
            <a:ext cx="723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GW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62560" y="1322280"/>
            <a:ext cx="1152720" cy="505080"/>
          </a:xfrm>
          <a:prstGeom prst="rect">
            <a:avLst/>
          </a:prstGeom>
          <a:solidFill>
            <a:srgbClr val="2b5481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91.000 GW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(3.98 %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17840" y="1685880"/>
            <a:ext cx="20952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0040" y="5781600"/>
            <a:ext cx="1904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282920" y="6284880"/>
            <a:ext cx="1886040" cy="368280"/>
            <a:chOff x="4282920" y="6284880"/>
            <a:chExt cx="1886040" cy="368280"/>
          </a:xfrm>
        </p:grpSpPr>
        <p:sp>
          <p:nvSpPr>
            <p:cNvPr id="155" name=""/>
            <p:cNvSpPr/>
            <p:nvPr/>
          </p:nvSpPr>
          <p:spPr>
            <a:xfrm>
              <a:off x="4371840" y="6372000"/>
              <a:ext cx="285840" cy="209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82920" y="6284880"/>
              <a:ext cx="18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TÉRMIC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780240" y="6256440"/>
            <a:ext cx="2255760" cy="368280"/>
            <a:chOff x="6780240" y="6256440"/>
            <a:chExt cx="2255760" cy="368280"/>
          </a:xfrm>
        </p:grpSpPr>
        <p:sp>
          <p:nvSpPr>
            <p:cNvPr id="158" name=""/>
            <p:cNvSpPr/>
            <p:nvPr/>
          </p:nvSpPr>
          <p:spPr>
            <a:xfrm>
              <a:off x="6780240" y="6256440"/>
              <a:ext cx="225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DÉFIC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94520" y="6364080"/>
              <a:ext cx="285840" cy="2095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050920" y="4203720"/>
            <a:ext cx="1224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6288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6560" y="3483000"/>
            <a:ext cx="4824360" cy="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0920" y="1322280"/>
            <a:ext cx="1152720" cy="505080"/>
          </a:xfrm>
          <a:prstGeom prst="rect">
            <a:avLst/>
          </a:prstGeom>
          <a:solidFill>
            <a:srgbClr val="2b5481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82.517GW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(4.74 %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06920" y="1322280"/>
            <a:ext cx="1152360" cy="505080"/>
          </a:xfrm>
          <a:prstGeom prst="rect">
            <a:avLst/>
          </a:prstGeom>
          <a:solidFill>
            <a:srgbClr val="2b5481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87.512GW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(6.05 %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91280" y="1322280"/>
            <a:ext cx="1152720" cy="505080"/>
          </a:xfrm>
          <a:prstGeom prst="rect">
            <a:avLst/>
          </a:prstGeom>
          <a:solidFill>
            <a:srgbClr val="2b5481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94.640 GW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(4 %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875640" y="3411000"/>
            <a:ext cx="1152360" cy="972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19280" y="3303720"/>
            <a:ext cx="755640" cy="3250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Arial"/>
              </a:rPr>
              <a:t>545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64360" y="3267000"/>
            <a:ext cx="755640" cy="3250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Arial"/>
              </a:rPr>
              <a:t>565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2560" y="6291360"/>
            <a:ext cx="2255760" cy="368280"/>
            <a:chOff x="682560" y="6291360"/>
            <a:chExt cx="2255760" cy="368280"/>
          </a:xfrm>
        </p:grpSpPr>
        <p:sp>
          <p:nvSpPr>
            <p:cNvPr id="169" name=""/>
            <p:cNvSpPr/>
            <p:nvPr/>
          </p:nvSpPr>
          <p:spPr>
            <a:xfrm>
              <a:off x="682560" y="6291360"/>
              <a:ext cx="225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HIDR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50840" y="6378480"/>
              <a:ext cx="285840" cy="209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050920" y="2525760"/>
            <a:ext cx="1224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80808"/>
                </a:solidFill>
                <a:latin typeface="Arial"/>
              </a:rPr>
              <a:t>196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06920" y="2525760"/>
            <a:ext cx="1224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80808"/>
                </a:solidFill>
                <a:latin typeface="Arial"/>
              </a:rPr>
              <a:t>270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06920" y="4203720"/>
            <a:ext cx="1224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6044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6922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2000 - 200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19640" y="2546280"/>
            <a:ext cx="1224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80808"/>
                </a:solidFill>
                <a:latin typeface="Arial"/>
              </a:rPr>
              <a:t>30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525760"/>
            <a:ext cx="1224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80808"/>
                </a:solidFill>
                <a:latin typeface="Arial"/>
              </a:rPr>
              <a:t>33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22600" y="3174840"/>
            <a:ext cx="1368360" cy="368280"/>
            <a:chOff x="3522600" y="3174840"/>
            <a:chExt cx="1368360" cy="368280"/>
          </a:xfrm>
        </p:grpSpPr>
        <p:sp>
          <p:nvSpPr>
            <p:cNvPr id="178" name=""/>
            <p:cNvSpPr/>
            <p:nvPr/>
          </p:nvSpPr>
          <p:spPr>
            <a:xfrm>
              <a:off x="3522600" y="3195720"/>
              <a:ext cx="1368360" cy="2872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51280" y="31748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>
                  <a:solidFill>
                    <a:srgbClr val="ffff00"/>
                  </a:solidFill>
                  <a:latin typeface="Arial"/>
                </a:rPr>
                <a:t>59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219640" y="4203720"/>
            <a:ext cx="1224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60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146560" y="3216240"/>
            <a:ext cx="1368720" cy="568440"/>
            <a:chOff x="5146560" y="3216240"/>
            <a:chExt cx="1368720" cy="568440"/>
          </a:xfrm>
        </p:grpSpPr>
        <p:sp>
          <p:nvSpPr>
            <p:cNvPr id="182" name=""/>
            <p:cNvSpPr/>
            <p:nvPr/>
          </p:nvSpPr>
          <p:spPr>
            <a:xfrm>
              <a:off x="5146560" y="3216240"/>
              <a:ext cx="1368720" cy="5684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03960" y="333216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>
                  <a:solidFill>
                    <a:srgbClr val="ffff00"/>
                  </a:solidFill>
                  <a:latin typeface="Arial"/>
                </a:rPr>
                <a:t>119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804000" y="4203720"/>
            <a:ext cx="1224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"/>
              </a:rPr>
              <a:t>611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730920" y="3274920"/>
            <a:ext cx="1368360" cy="824040"/>
            <a:chOff x="6730920" y="3274920"/>
            <a:chExt cx="1368360" cy="824040"/>
          </a:xfrm>
        </p:grpSpPr>
        <p:sp>
          <p:nvSpPr>
            <p:cNvPr id="186" name=""/>
            <p:cNvSpPr/>
            <p:nvPr/>
          </p:nvSpPr>
          <p:spPr>
            <a:xfrm>
              <a:off x="6730920" y="3274920"/>
              <a:ext cx="1368360" cy="824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87960" y="3483000"/>
              <a:ext cx="82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>
                  <a:solidFill>
                    <a:srgbClr val="ffff00"/>
                  </a:solidFill>
                  <a:latin typeface="Arial"/>
                </a:rPr>
                <a:t>1658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pull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7583400"/>
            <a:ext cx="1015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25560" y="44280"/>
            <a:ext cx="913464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COTAS DEL EMBALSE DE GUR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39640" y="1204920"/>
          <a:ext cx="8209080" cy="547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204920"/>
                    <a:ext cx="8209080" cy="54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6877080" y="4782960"/>
            <a:ext cx="2016000" cy="580680"/>
          </a:xfrm>
          <a:prstGeom prst="borderCallout1">
            <a:avLst>
              <a:gd name="adj1" fmla="val 18750"/>
              <a:gd name="adj2" fmla="val -8333"/>
              <a:gd name="adj3" fmla="val -222300"/>
              <a:gd name="adj4" fmla="val -1265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43 % Volumen Útil al 02 Julio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43240" y="4638600"/>
            <a:ext cx="1905120" cy="580680"/>
          </a:xfrm>
          <a:prstGeom prst="borderCallout1">
            <a:avLst>
              <a:gd name="adj1" fmla="val 18750"/>
              <a:gd name="adj2" fmla="val -8333"/>
              <a:gd name="adj3" fmla="val -260717"/>
              <a:gd name="adj4" fmla="val 11981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53% Volumen Útil al 01 Enero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54160" y="3559320"/>
            <a:ext cx="1905120" cy="580680"/>
          </a:xfrm>
          <a:prstGeom prst="borderCallout1">
            <a:avLst>
              <a:gd name="adj1" fmla="val 18750"/>
              <a:gd name="adj2" fmla="val -8333"/>
              <a:gd name="adj3" fmla="val -301856"/>
              <a:gd name="adj4" fmla="val 117662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Arial"/>
              </a:rPr>
              <a:t>95% Volumen Útil al 01 Enero 2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84720" y="1413000"/>
            <a:ext cx="2286000" cy="533160"/>
          </a:xfrm>
          <a:prstGeom prst="rect">
            <a:avLst/>
          </a:prstGeom>
          <a:solidFill>
            <a:srgbClr val="ffffcc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80808"/>
                </a:solidFill>
                <a:latin typeface="Arial"/>
              </a:rPr>
              <a:t>Cota al 02/07/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80808"/>
                </a:solidFill>
                <a:latin typeface="Arial"/>
              </a:rPr>
              <a:t>256,61 m.s.n.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7439040"/>
            <a:ext cx="1015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15920"/>
            <a:ext cx="9144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REGLA OPERATIVA</a:t>
            </a:r>
            <a:br>
              <a:rPr sz="3600"/>
            </a:br>
            <a:r>
              <a:rPr b="0" lang="es-VE" sz="2400" spc="-1" strike="noStrike">
                <a:solidFill>
                  <a:srgbClr val="ffffff"/>
                </a:solidFill>
                <a:latin typeface="Tahoma"/>
              </a:rPr>
              <a:t>PARA LA ADMINISTRACIÓN DEL EMBALSE DE GU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0" y="920880"/>
            <a:ext cx="8935560" cy="5937120"/>
            <a:chOff x="0" y="920880"/>
            <a:chExt cx="8935560" cy="5937120"/>
          </a:xfrm>
        </p:grpSpPr>
        <p:grpSp>
          <p:nvGrpSpPr>
            <p:cNvPr id="199" name=""/>
            <p:cNvGrpSpPr/>
            <p:nvPr/>
          </p:nvGrpSpPr>
          <p:grpSpPr>
            <a:xfrm>
              <a:off x="757080" y="1282680"/>
              <a:ext cx="7810200" cy="4470480"/>
              <a:chOff x="757080" y="1282680"/>
              <a:chExt cx="7810200" cy="447048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757080" y="1282680"/>
                <a:ext cx="7809840" cy="1968480"/>
                <a:chOff x="757080" y="1282680"/>
                <a:chExt cx="7809840" cy="19684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57080" y="1282680"/>
                  <a:ext cx="4101480" cy="1968480"/>
                </a:xfrm>
                <a:custGeom>
                  <a:avLst/>
                  <a:gdLst/>
                  <a:ahLst/>
                  <a:rect l="l" t="t" r="r" b="b"/>
                  <a:pathLst>
                    <a:path w="2584" h="1240">
                      <a:moveTo>
                        <a:pt x="0" y="0"/>
                      </a:moveTo>
                      <a:lnTo>
                        <a:pt x="2584" y="0"/>
                      </a:lnTo>
                      <a:lnTo>
                        <a:pt x="2320" y="216"/>
                      </a:lnTo>
                      <a:lnTo>
                        <a:pt x="2128" y="416"/>
                      </a:lnTo>
                      <a:lnTo>
                        <a:pt x="1920" y="648"/>
                      </a:lnTo>
                      <a:lnTo>
                        <a:pt x="1720" y="864"/>
                      </a:lnTo>
                      <a:lnTo>
                        <a:pt x="1448" y="1200"/>
                      </a:lnTo>
                      <a:lnTo>
                        <a:pt x="1144" y="1240"/>
                      </a:lnTo>
                      <a:lnTo>
                        <a:pt x="856" y="1080"/>
                      </a:lnTo>
                      <a:lnTo>
                        <a:pt x="680" y="864"/>
                      </a:lnTo>
                      <a:lnTo>
                        <a:pt x="512" y="648"/>
                      </a:lnTo>
                      <a:lnTo>
                        <a:pt x="288" y="432"/>
                      </a:lnTo>
                      <a:lnTo>
                        <a:pt x="0" y="2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884120" y="1282680"/>
                  <a:ext cx="3682800" cy="1968480"/>
                </a:xfrm>
                <a:custGeom>
                  <a:avLst/>
                  <a:gdLst/>
                  <a:ahLst/>
                  <a:rect l="l" t="t" r="r" b="b"/>
                  <a:pathLst>
                    <a:path w="2320" h="1240">
                      <a:moveTo>
                        <a:pt x="2320" y="0"/>
                      </a:moveTo>
                      <a:lnTo>
                        <a:pt x="0" y="0"/>
                      </a:lnTo>
                      <a:lnTo>
                        <a:pt x="392" y="72"/>
                      </a:lnTo>
                      <a:lnTo>
                        <a:pt x="648" y="128"/>
                      </a:lnTo>
                      <a:lnTo>
                        <a:pt x="872" y="216"/>
                      </a:lnTo>
                      <a:lnTo>
                        <a:pt x="1144" y="416"/>
                      </a:lnTo>
                      <a:lnTo>
                        <a:pt x="1384" y="648"/>
                      </a:lnTo>
                      <a:lnTo>
                        <a:pt x="1552" y="848"/>
                      </a:lnTo>
                      <a:lnTo>
                        <a:pt x="1720" y="1080"/>
                      </a:lnTo>
                      <a:lnTo>
                        <a:pt x="2024" y="1240"/>
                      </a:lnTo>
                      <a:lnTo>
                        <a:pt x="2320" y="1184"/>
                      </a:lnTo>
                      <a:lnTo>
                        <a:pt x="2320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757080" y="1308240"/>
                <a:ext cx="7810200" cy="3911400"/>
              </a:xfrm>
              <a:custGeom>
                <a:avLst/>
                <a:gdLst/>
                <a:ahLst/>
                <a:rect l="l" t="t" r="r" b="b"/>
                <a:pathLst>
                  <a:path w="4920" h="2464">
                    <a:moveTo>
                      <a:pt x="0" y="208"/>
                    </a:moveTo>
                    <a:lnTo>
                      <a:pt x="280" y="408"/>
                    </a:lnTo>
                    <a:lnTo>
                      <a:pt x="560" y="696"/>
                    </a:lnTo>
                    <a:lnTo>
                      <a:pt x="744" y="928"/>
                    </a:lnTo>
                    <a:lnTo>
                      <a:pt x="848" y="1064"/>
                    </a:lnTo>
                    <a:lnTo>
                      <a:pt x="1120" y="1216"/>
                    </a:lnTo>
                    <a:lnTo>
                      <a:pt x="1448" y="1160"/>
                    </a:lnTo>
                    <a:lnTo>
                      <a:pt x="1720" y="840"/>
                    </a:lnTo>
                    <a:lnTo>
                      <a:pt x="1936" y="608"/>
                    </a:lnTo>
                    <a:lnTo>
                      <a:pt x="2296" y="208"/>
                    </a:lnTo>
                    <a:lnTo>
                      <a:pt x="2584" y="0"/>
                    </a:lnTo>
                    <a:lnTo>
                      <a:pt x="2984" y="56"/>
                    </a:lnTo>
                    <a:lnTo>
                      <a:pt x="3440" y="192"/>
                    </a:lnTo>
                    <a:lnTo>
                      <a:pt x="3736" y="384"/>
                    </a:lnTo>
                    <a:lnTo>
                      <a:pt x="3968" y="616"/>
                    </a:lnTo>
                    <a:lnTo>
                      <a:pt x="4168" y="856"/>
                    </a:lnTo>
                    <a:lnTo>
                      <a:pt x="4336" y="1064"/>
                    </a:lnTo>
                    <a:lnTo>
                      <a:pt x="4616" y="1224"/>
                    </a:lnTo>
                    <a:lnTo>
                      <a:pt x="4920" y="1168"/>
                    </a:lnTo>
                    <a:lnTo>
                      <a:pt x="4920" y="2456"/>
                    </a:lnTo>
                    <a:lnTo>
                      <a:pt x="4554" y="2381"/>
                    </a:lnTo>
                    <a:lnTo>
                      <a:pt x="4281" y="2093"/>
                    </a:lnTo>
                    <a:lnTo>
                      <a:pt x="4032" y="1688"/>
                    </a:lnTo>
                    <a:lnTo>
                      <a:pt x="3821" y="1462"/>
                    </a:lnTo>
                    <a:lnTo>
                      <a:pt x="3666" y="1314"/>
                    </a:lnTo>
                    <a:lnTo>
                      <a:pt x="3471" y="1166"/>
                    </a:lnTo>
                    <a:lnTo>
                      <a:pt x="3237" y="1064"/>
                    </a:lnTo>
                    <a:lnTo>
                      <a:pt x="3128" y="1000"/>
                    </a:lnTo>
                    <a:lnTo>
                      <a:pt x="2960" y="976"/>
                    </a:lnTo>
                    <a:lnTo>
                      <a:pt x="2752" y="936"/>
                    </a:lnTo>
                    <a:lnTo>
                      <a:pt x="2568" y="984"/>
                    </a:lnTo>
                    <a:lnTo>
                      <a:pt x="2432" y="1120"/>
                    </a:lnTo>
                    <a:lnTo>
                      <a:pt x="2376" y="1200"/>
                    </a:lnTo>
                    <a:lnTo>
                      <a:pt x="2237" y="1328"/>
                    </a:lnTo>
                    <a:lnTo>
                      <a:pt x="2080" y="1576"/>
                    </a:lnTo>
                    <a:lnTo>
                      <a:pt x="1901" y="1971"/>
                    </a:lnTo>
                    <a:lnTo>
                      <a:pt x="1440" y="2464"/>
                    </a:lnTo>
                    <a:lnTo>
                      <a:pt x="1133" y="2342"/>
                    </a:lnTo>
                    <a:lnTo>
                      <a:pt x="853" y="2124"/>
                    </a:lnTo>
                    <a:lnTo>
                      <a:pt x="572" y="1766"/>
                    </a:lnTo>
                    <a:lnTo>
                      <a:pt x="304" y="1368"/>
                    </a:lnTo>
                    <a:lnTo>
                      <a:pt x="0" y="1128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757080" y="2654280"/>
                <a:ext cx="7809840" cy="2565360"/>
                <a:chOff x="757080" y="2654280"/>
                <a:chExt cx="7809840" cy="25653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57080" y="3098880"/>
                  <a:ext cx="2260080" cy="2120760"/>
                </a:xfrm>
                <a:custGeom>
                  <a:avLst/>
                  <a:gdLst/>
                  <a:ahLst/>
                  <a:rect l="l" t="t" r="r" b="b"/>
                  <a:pathLst>
                    <a:path w="1424" h="1336">
                      <a:moveTo>
                        <a:pt x="0" y="0"/>
                      </a:moveTo>
                      <a:lnTo>
                        <a:pt x="336" y="264"/>
                      </a:lnTo>
                      <a:lnTo>
                        <a:pt x="552" y="496"/>
                      </a:lnTo>
                      <a:lnTo>
                        <a:pt x="829" y="825"/>
                      </a:lnTo>
                      <a:lnTo>
                        <a:pt x="1096" y="1144"/>
                      </a:lnTo>
                      <a:lnTo>
                        <a:pt x="1424" y="1336"/>
                      </a:lnTo>
                      <a:lnTo>
                        <a:pt x="0" y="13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029760" y="2654280"/>
                  <a:ext cx="5537160" cy="2565360"/>
                </a:xfrm>
                <a:custGeom>
                  <a:avLst/>
                  <a:gdLst/>
                  <a:ahLst/>
                  <a:rect l="l" t="t" r="r" b="b"/>
                  <a:pathLst>
                    <a:path w="3488" h="1616">
                      <a:moveTo>
                        <a:pt x="0" y="1616"/>
                      </a:moveTo>
                      <a:lnTo>
                        <a:pt x="267" y="1200"/>
                      </a:lnTo>
                      <a:lnTo>
                        <a:pt x="592" y="656"/>
                      </a:lnTo>
                      <a:lnTo>
                        <a:pt x="880" y="224"/>
                      </a:lnTo>
                      <a:lnTo>
                        <a:pt x="1160" y="0"/>
                      </a:lnTo>
                      <a:lnTo>
                        <a:pt x="1368" y="40"/>
                      </a:lnTo>
                      <a:lnTo>
                        <a:pt x="1480" y="56"/>
                      </a:lnTo>
                      <a:lnTo>
                        <a:pt x="1751" y="115"/>
                      </a:lnTo>
                      <a:lnTo>
                        <a:pt x="2008" y="247"/>
                      </a:lnTo>
                      <a:lnTo>
                        <a:pt x="2210" y="372"/>
                      </a:lnTo>
                      <a:lnTo>
                        <a:pt x="2444" y="582"/>
                      </a:lnTo>
                      <a:lnTo>
                        <a:pt x="2584" y="746"/>
                      </a:lnTo>
                      <a:lnTo>
                        <a:pt x="2818" y="1042"/>
                      </a:lnTo>
                      <a:lnTo>
                        <a:pt x="2997" y="1284"/>
                      </a:lnTo>
                      <a:lnTo>
                        <a:pt x="3161" y="1502"/>
                      </a:lnTo>
                      <a:lnTo>
                        <a:pt x="3488" y="1608"/>
                      </a:lnTo>
                      <a:lnTo>
                        <a:pt x="0" y="1616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769320" y="5232240"/>
                <a:ext cx="7797600" cy="520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08" name=""/>
            <p:cNvGraphicFramePr/>
            <p:nvPr/>
          </p:nvGraphicFramePr>
          <p:xfrm>
            <a:off x="179280" y="1130400"/>
            <a:ext cx="8571960" cy="5727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9280" y="1130400"/>
                      <a:ext cx="8571960" cy="572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0" name=""/>
            <p:cNvSpPr/>
            <p:nvPr/>
          </p:nvSpPr>
          <p:spPr>
            <a:xfrm>
              <a:off x="0" y="920880"/>
              <a:ext cx="196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Nivel Guri ( m.s.n.m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51000" y="3413160"/>
              <a:ext cx="3024000" cy="8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ALAR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Times New Roman"/>
                </a:rPr>
                <a:t>Programa de Ahorro Energético Obligatori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87640" y="1355760"/>
              <a:ext cx="266508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080808"/>
                  </a:solidFill>
                  <a:uFillTx/>
                  <a:latin typeface="Times New Roman"/>
                </a:rPr>
                <a:t>ALER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80808"/>
                  </a:solidFill>
                  <a:latin typeface="Times New Roman"/>
                </a:rPr>
                <a:t>Programa de Racionalización Energétic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74560" y="5292720"/>
              <a:ext cx="63352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EMERGENCIA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 Racionamientos Forzad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2480" y="5105520"/>
              <a:ext cx="4694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66ff33"/>
                  </a:solidFill>
                  <a:latin typeface="Arial"/>
                </a:rPr>
                <a:t>24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2600" y="5829120"/>
              <a:ext cx="8026200" cy="673200"/>
            </a:xfrm>
            <a:prstGeom prst="rect">
              <a:avLst/>
            </a:prstGeom>
            <a:solidFill>
              <a:srgbClr val="2b5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757080" y="5816520"/>
              <a:ext cx="7956000" cy="581760"/>
              <a:chOff x="757080" y="5816520"/>
              <a:chExt cx="7956000" cy="581760"/>
            </a:xfrm>
          </p:grpSpPr>
          <p:sp>
            <p:nvSpPr>
              <p:cNvPr id="217" name=""/>
              <p:cNvSpPr/>
              <p:nvPr/>
            </p:nvSpPr>
            <p:spPr>
              <a:xfrm>
                <a:off x="757080" y="5816520"/>
                <a:ext cx="795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ff00"/>
                    </a:solidFill>
                    <a:latin typeface="Arial"/>
                  </a:rPr>
                  <a:t>ENE     FEB   MAR  ABR   MAY  JUN    JUL    AGO   SEP   OCT    NOV    DIC</a:t>
                </a:r>
                <a:r>
                  <a:rPr b="1" lang="es-ES_tradnl" sz="1200" spc="-1" strike="noStrike">
                    <a:solidFill>
                      <a:srgbClr val="0000ff"/>
                    </a:solidFill>
                    <a:latin typeface="Arial"/>
                  </a:rPr>
                  <a:t>    </a:t>
                </a:r>
                <a:r>
                  <a:rPr b="1" lang="es-ES_tradnl" sz="1200" spc="-1" strike="noStrike">
                    <a:solidFill>
                      <a:srgbClr val="ffffff"/>
                    </a:solidFill>
                    <a:latin typeface="Arial"/>
                  </a:rPr>
                  <a:t>ENE   FEB   MAR  ABR   MAY</a:t>
                </a:r>
                <a:r>
                  <a:rPr b="1" lang="es-ES_tradnl" sz="1200" spc="-1" strike="noStrike">
                    <a:solidFill>
                      <a:srgbClr val="0000ff"/>
                    </a:solidFill>
                    <a:latin typeface="Arial"/>
                  </a:rPr>
                  <a:t> 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241000" y="5999400"/>
                <a:ext cx="12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00"/>
                    </a:solidFill>
                    <a:latin typeface="Arial"/>
                  </a:rPr>
                  <a:t>2002</a:t>
                </a:r>
                <a:r>
                  <a:rPr b="1" lang="es-ES_tradnl" sz="2000" spc="-1" strike="noStrike">
                    <a:solidFill>
                      <a:srgbClr val="0000ff"/>
                    </a:solidFill>
                    <a:latin typeface="Arial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869880" y="5972400"/>
                <a:ext cx="1229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Arial"/>
                  </a:rPr>
                  <a:t>2003 </a:t>
                </a:r>
                <a:r>
                  <a:rPr b="1" lang="es-ES_tradnl" sz="2000" spc="-1" strike="noStrike">
                    <a:solidFill>
                      <a:srgbClr val="d60093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61720" y="5892840"/>
              <a:ext cx="8584920" cy="419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5840" y="5791320"/>
              <a:ext cx="85597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115920"/>
            <a:ext cx="9144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ESCENAR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981000"/>
            <a:ext cx="8353440" cy="561672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39640" y="1050840"/>
            <a:ext cx="8213760" cy="5473440"/>
            <a:chOff x="539640" y="1050840"/>
            <a:chExt cx="8213760" cy="5473440"/>
          </a:xfrm>
        </p:grpSpPr>
        <p:graphicFrame>
          <p:nvGraphicFramePr>
            <p:cNvPr id="225" name=""/>
            <p:cNvGraphicFramePr/>
            <p:nvPr/>
          </p:nvGraphicFramePr>
          <p:xfrm>
            <a:off x="659520" y="1117440"/>
            <a:ext cx="8093880" cy="5406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59520" y="1117440"/>
                      <a:ext cx="8093880" cy="540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7" name=""/>
            <p:cNvSpPr/>
            <p:nvPr/>
          </p:nvSpPr>
          <p:spPr>
            <a:xfrm>
              <a:off x="1344240" y="2464560"/>
              <a:ext cx="6937560" cy="1658520"/>
            </a:xfrm>
            <a:custGeom>
              <a:avLst/>
              <a:gdLst/>
              <a:ahLst/>
              <a:rect l="l" t="t" r="r" b="b"/>
              <a:pathLst>
                <a:path w="4901" h="1633">
                  <a:moveTo>
                    <a:pt x="0" y="1633"/>
                  </a:moveTo>
                  <a:lnTo>
                    <a:pt x="411" y="1155"/>
                  </a:lnTo>
                  <a:lnTo>
                    <a:pt x="822" y="666"/>
                  </a:lnTo>
                  <a:lnTo>
                    <a:pt x="1222" y="222"/>
                  </a:lnTo>
                  <a:lnTo>
                    <a:pt x="1611" y="0"/>
                  </a:lnTo>
                  <a:lnTo>
                    <a:pt x="1922" y="44"/>
                  </a:lnTo>
                  <a:lnTo>
                    <a:pt x="2045" y="44"/>
                  </a:lnTo>
                  <a:lnTo>
                    <a:pt x="2456" y="122"/>
                  </a:lnTo>
                  <a:lnTo>
                    <a:pt x="2856" y="255"/>
                  </a:lnTo>
                  <a:lnTo>
                    <a:pt x="3300" y="511"/>
                  </a:lnTo>
                  <a:lnTo>
                    <a:pt x="3656" y="755"/>
                  </a:lnTo>
                  <a:lnTo>
                    <a:pt x="4067" y="1144"/>
                  </a:lnTo>
                  <a:lnTo>
                    <a:pt x="4478" y="1511"/>
                  </a:lnTo>
                  <a:lnTo>
                    <a:pt x="4901" y="1622"/>
                  </a:lnTo>
                  <a:lnTo>
                    <a:pt x="0" y="1633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38400" y="4217040"/>
              <a:ext cx="7253640" cy="87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9640" y="1050840"/>
              <a:ext cx="185400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Nivel Guri ( m.s.n.m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34640" y="5227560"/>
              <a:ext cx="59821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EMERGENCIA</a:t>
              </a:r>
              <a:r>
                <a:rPr b="1" lang="es-ES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acionamientos Forzad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35200" y="2909880"/>
              <a:ext cx="316728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 u="sng">
                  <a:solidFill>
                    <a:srgbClr val="ff0000"/>
                  </a:solidFill>
                  <a:uFillTx/>
                  <a:latin typeface="Arial"/>
                </a:rPr>
                <a:t>PRE - EMERGENCI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0000"/>
                  </a:solidFill>
                  <a:latin typeface="Arial"/>
                </a:rPr>
                <a:t>Reducción de generación en Guri para evitar llegar a los niveles operativos crítico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47720" y="1650240"/>
              <a:ext cx="321732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 u="sng">
                  <a:solidFill>
                    <a:srgbClr val="336600"/>
                  </a:solidFill>
                  <a:uFillTx/>
                  <a:latin typeface="Arial"/>
                </a:rPr>
                <a:t>ALER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6600"/>
                  </a:solidFill>
                  <a:latin typeface="Arial"/>
                </a:rPr>
                <a:t>Racionalización Energétic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39120" y="5110560"/>
              <a:ext cx="7266960" cy="448920"/>
            </a:xfrm>
            <a:prstGeom prst="rect">
              <a:avLst/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14680" y="4182840"/>
              <a:ext cx="342828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 u="sng">
                  <a:solidFill>
                    <a:srgbClr val="ffff00"/>
                  </a:solidFill>
                  <a:uFillTx/>
                  <a:latin typeface="Arial"/>
                </a:rPr>
                <a:t>EMERGENCI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00"/>
                  </a:solidFill>
                  <a:latin typeface="Arial"/>
                </a:rPr>
                <a:t>Racionamientos forzados por disminución de capacidad en unidades de Guri I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17160" y="5165280"/>
              <a:ext cx="72018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 u="sng">
                  <a:solidFill>
                    <a:srgbClr val="ffffff"/>
                  </a:solidFill>
                  <a:uFillTx/>
                  <a:latin typeface="Arial"/>
                </a:rPr>
                <a:t>EMERGENCIA EXTREMA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Parada de 8 unidades de Guri I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332000" y="2878200"/>
            <a:ext cx="706320" cy="409680"/>
            <a:chOff x="1332000" y="2878200"/>
            <a:chExt cx="706320" cy="409680"/>
          </a:xfrm>
        </p:grpSpPr>
        <p:grpSp>
          <p:nvGrpSpPr>
            <p:cNvPr id="237" name=""/>
            <p:cNvGrpSpPr/>
            <p:nvPr/>
          </p:nvGrpSpPr>
          <p:grpSpPr>
            <a:xfrm>
              <a:off x="1943280" y="2878200"/>
              <a:ext cx="69840" cy="347400"/>
              <a:chOff x="1943280" y="2878200"/>
              <a:chExt cx="69840" cy="347400"/>
            </a:xfrm>
          </p:grpSpPr>
          <p:sp>
            <p:nvSpPr>
              <p:cNvPr id="238" name=""/>
              <p:cNvSpPr/>
              <p:nvPr/>
            </p:nvSpPr>
            <p:spPr>
              <a:xfrm>
                <a:off x="1943280" y="2878200"/>
                <a:ext cx="69840" cy="288720"/>
              </a:xfrm>
              <a:prstGeom prst="downArrow">
                <a:avLst>
                  <a:gd name="adj1" fmla="val 50000"/>
                  <a:gd name="adj2" fmla="val 103351"/>
                </a:avLst>
              </a:prstGeom>
              <a:solidFill>
                <a:srgbClr val="080808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43280" y="3154320"/>
                <a:ext cx="68040" cy="71280"/>
              </a:xfrm>
              <a:prstGeom prst="flowChartConnector">
                <a:avLst/>
              </a:prstGeom>
              <a:solidFill>
                <a:srgbClr val="080808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1332000" y="3041640"/>
              <a:ext cx="706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000" spc="-1" strike="noStrike">
                  <a:solidFill>
                    <a:srgbClr val="080808"/>
                  </a:solidFill>
                  <a:latin typeface="Arial"/>
                </a:rPr>
                <a:t>02/07/0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pull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258920" y="4724280"/>
            <a:ext cx="7129440" cy="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1285920"/>
          <a:ext cx="8353440" cy="557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285920"/>
                    <a:ext cx="835344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0" y="7583400"/>
            <a:ext cx="1015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25560" y="44280"/>
            <a:ext cx="913464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RIES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88000" y="1098720"/>
            <a:ext cx="2305080" cy="307080"/>
          </a:xfrm>
          <a:prstGeom prst="borderCallout1">
            <a:avLst>
              <a:gd name="adj1" fmla="val 18750"/>
              <a:gd name="adj2" fmla="val -8333"/>
              <a:gd name="adj3" fmla="val 453277"/>
              <a:gd name="adj4" fmla="val -20092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80808"/>
                </a:solidFill>
                <a:latin typeface="Arial"/>
              </a:rPr>
              <a:t>PROME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40200" y="1530360"/>
            <a:ext cx="2232000" cy="307080"/>
          </a:xfrm>
          <a:prstGeom prst="borderCallout1">
            <a:avLst>
              <a:gd name="adj1" fmla="val 18750"/>
              <a:gd name="adj2" fmla="val -8333"/>
              <a:gd name="adj3" fmla="val 431027"/>
              <a:gd name="adj4" fmla="val -12574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80808"/>
                </a:solidFill>
                <a:latin typeface="Arial"/>
              </a:rPr>
              <a:t>90% DEL PROME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93920" y="1341360"/>
            <a:ext cx="2241360" cy="307080"/>
          </a:xfrm>
          <a:prstGeom prst="borderCallout1">
            <a:avLst>
              <a:gd name="adj1" fmla="val 18750"/>
              <a:gd name="adj2" fmla="val -8333"/>
              <a:gd name="adj3" fmla="val 599527"/>
              <a:gd name="adj4" fmla="val 123925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80808"/>
                </a:solidFill>
                <a:latin typeface="Arial"/>
              </a:rPr>
              <a:t>80% DEL PROME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93920" y="1916280"/>
            <a:ext cx="2241360" cy="307080"/>
          </a:xfrm>
          <a:prstGeom prst="borderCallout1">
            <a:avLst>
              <a:gd name="adj1" fmla="val 18750"/>
              <a:gd name="adj2" fmla="val -8333"/>
              <a:gd name="adj3" fmla="val 559250"/>
              <a:gd name="adj4" fmla="val 120953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80808"/>
                </a:solidFill>
                <a:latin typeface="Arial"/>
              </a:rPr>
              <a:t>70% DEL PROME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7583400"/>
            <a:ext cx="1015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-25560" y="333360"/>
            <a:ext cx="913464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ff"/>
                </a:solidFill>
                <a:latin typeface="Tahoma"/>
              </a:rPr>
              <a:t>IMPACTOS DEL ESCENARIO 240 EN GUR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-228600" y="1317600"/>
            <a:ext cx="10819800" cy="7511400"/>
            <a:chOff x="-228600" y="1317600"/>
            <a:chExt cx="10819800" cy="7511400"/>
          </a:xfrm>
        </p:grpSpPr>
        <p:grpSp>
          <p:nvGrpSpPr>
            <p:cNvPr id="253" name=""/>
            <p:cNvGrpSpPr/>
            <p:nvPr/>
          </p:nvGrpSpPr>
          <p:grpSpPr>
            <a:xfrm>
              <a:off x="-228600" y="1317600"/>
              <a:ext cx="10819800" cy="7511400"/>
              <a:chOff x="-228600" y="1317600"/>
              <a:chExt cx="10819800" cy="7511400"/>
            </a:xfrm>
          </p:grpSpPr>
          <p:sp>
            <p:nvSpPr>
              <p:cNvPr id="254" name=""/>
              <p:cNvSpPr/>
              <p:nvPr/>
            </p:nvSpPr>
            <p:spPr>
              <a:xfrm>
                <a:off x="-228600" y="1317600"/>
                <a:ext cx="9287280" cy="7417800"/>
              </a:xfrm>
              <a:custGeom>
                <a:avLst/>
                <a:gdLst/>
                <a:ahLst/>
                <a:rect l="l" t="t" r="r" b="b"/>
                <a:pathLst>
                  <a:path w="3772" h="2802">
                    <a:moveTo>
                      <a:pt x="1516" y="1779"/>
                    </a:moveTo>
                    <a:cubicBezTo>
                      <a:pt x="1422" y="1748"/>
                      <a:pt x="1424" y="1763"/>
                      <a:pt x="1492" y="1743"/>
                    </a:cubicBezTo>
                    <a:cubicBezTo>
                      <a:pt x="1535" y="1731"/>
                      <a:pt x="1525" y="1733"/>
                      <a:pt x="1564" y="1707"/>
                    </a:cubicBezTo>
                    <a:cubicBezTo>
                      <a:pt x="1568" y="1695"/>
                      <a:pt x="1567" y="1680"/>
                      <a:pt x="1576" y="1671"/>
                    </a:cubicBezTo>
                    <a:cubicBezTo>
                      <a:pt x="1596" y="1651"/>
                      <a:pt x="1648" y="1623"/>
                      <a:pt x="1648" y="1623"/>
                    </a:cubicBezTo>
                    <a:cubicBezTo>
                      <a:pt x="1644" y="1607"/>
                      <a:pt x="1650" y="1584"/>
                      <a:pt x="1636" y="1575"/>
                    </a:cubicBezTo>
                    <a:cubicBezTo>
                      <a:pt x="1595" y="1549"/>
                      <a:pt x="1540" y="1561"/>
                      <a:pt x="1492" y="1551"/>
                    </a:cubicBezTo>
                    <a:cubicBezTo>
                      <a:pt x="1406" y="1561"/>
                      <a:pt x="1346" y="1566"/>
                      <a:pt x="1264" y="1539"/>
                    </a:cubicBezTo>
                    <a:cubicBezTo>
                      <a:pt x="1173" y="1569"/>
                      <a:pt x="1217" y="1568"/>
                      <a:pt x="1132" y="1551"/>
                    </a:cubicBezTo>
                    <a:cubicBezTo>
                      <a:pt x="1116" y="1527"/>
                      <a:pt x="1100" y="1503"/>
                      <a:pt x="1084" y="1479"/>
                    </a:cubicBezTo>
                    <a:cubicBezTo>
                      <a:pt x="1076" y="1467"/>
                      <a:pt x="1074" y="1448"/>
                      <a:pt x="1060" y="1443"/>
                    </a:cubicBezTo>
                    <a:cubicBezTo>
                      <a:pt x="1024" y="1431"/>
                      <a:pt x="1019" y="1433"/>
                      <a:pt x="988" y="1407"/>
                    </a:cubicBezTo>
                    <a:cubicBezTo>
                      <a:pt x="975" y="1396"/>
                      <a:pt x="968" y="1377"/>
                      <a:pt x="952" y="1371"/>
                    </a:cubicBezTo>
                    <a:cubicBezTo>
                      <a:pt x="926" y="1360"/>
                      <a:pt x="896" y="1363"/>
                      <a:pt x="868" y="1359"/>
                    </a:cubicBezTo>
                    <a:cubicBezTo>
                      <a:pt x="755" y="1367"/>
                      <a:pt x="655" y="1387"/>
                      <a:pt x="544" y="1371"/>
                    </a:cubicBezTo>
                    <a:cubicBezTo>
                      <a:pt x="496" y="1355"/>
                      <a:pt x="448" y="1351"/>
                      <a:pt x="400" y="1335"/>
                    </a:cubicBezTo>
                    <a:cubicBezTo>
                      <a:pt x="392" y="1323"/>
                      <a:pt x="381" y="1313"/>
                      <a:pt x="376" y="1299"/>
                    </a:cubicBezTo>
                    <a:cubicBezTo>
                      <a:pt x="369" y="1280"/>
                      <a:pt x="375" y="1256"/>
                      <a:pt x="364" y="1239"/>
                    </a:cubicBezTo>
                    <a:cubicBezTo>
                      <a:pt x="338" y="1198"/>
                      <a:pt x="295" y="1171"/>
                      <a:pt x="268" y="1131"/>
                    </a:cubicBezTo>
                    <a:cubicBezTo>
                      <a:pt x="281" y="1092"/>
                      <a:pt x="303" y="1062"/>
                      <a:pt x="316" y="1023"/>
                    </a:cubicBezTo>
                    <a:cubicBezTo>
                      <a:pt x="260" y="939"/>
                      <a:pt x="292" y="967"/>
                      <a:pt x="232" y="927"/>
                    </a:cubicBezTo>
                    <a:cubicBezTo>
                      <a:pt x="215" y="877"/>
                      <a:pt x="235" y="800"/>
                      <a:pt x="172" y="783"/>
                    </a:cubicBezTo>
                    <a:cubicBezTo>
                      <a:pt x="141" y="775"/>
                      <a:pt x="108" y="775"/>
                      <a:pt x="76" y="771"/>
                    </a:cubicBezTo>
                    <a:cubicBezTo>
                      <a:pt x="64" y="767"/>
                      <a:pt x="49" y="768"/>
                      <a:pt x="40" y="759"/>
                    </a:cubicBezTo>
                    <a:cubicBezTo>
                      <a:pt x="0" y="719"/>
                      <a:pt x="48" y="681"/>
                      <a:pt x="76" y="663"/>
                    </a:cubicBezTo>
                    <a:cubicBezTo>
                      <a:pt x="89" y="624"/>
                      <a:pt x="123" y="594"/>
                      <a:pt x="136" y="555"/>
                    </a:cubicBezTo>
                    <a:cubicBezTo>
                      <a:pt x="165" y="468"/>
                      <a:pt x="176" y="368"/>
                      <a:pt x="256" y="315"/>
                    </a:cubicBezTo>
                    <a:cubicBezTo>
                      <a:pt x="302" y="246"/>
                      <a:pt x="368" y="253"/>
                      <a:pt x="436" y="219"/>
                    </a:cubicBezTo>
                    <a:cubicBezTo>
                      <a:pt x="479" y="198"/>
                      <a:pt x="512" y="155"/>
                      <a:pt x="544" y="123"/>
                    </a:cubicBezTo>
                    <a:cubicBezTo>
                      <a:pt x="556" y="111"/>
                      <a:pt x="564" y="91"/>
                      <a:pt x="580" y="87"/>
                    </a:cubicBezTo>
                    <a:cubicBezTo>
                      <a:pt x="596" y="83"/>
                      <a:pt x="612" y="79"/>
                      <a:pt x="628" y="75"/>
                    </a:cubicBezTo>
                    <a:cubicBezTo>
                      <a:pt x="644" y="79"/>
                      <a:pt x="671" y="71"/>
                      <a:pt x="676" y="87"/>
                    </a:cubicBezTo>
                    <a:cubicBezTo>
                      <a:pt x="681" y="101"/>
                      <a:pt x="653" y="105"/>
                      <a:pt x="640" y="111"/>
                    </a:cubicBezTo>
                    <a:cubicBezTo>
                      <a:pt x="617" y="121"/>
                      <a:pt x="568" y="135"/>
                      <a:pt x="568" y="135"/>
                    </a:cubicBezTo>
                    <a:cubicBezTo>
                      <a:pt x="560" y="159"/>
                      <a:pt x="552" y="183"/>
                      <a:pt x="544" y="207"/>
                    </a:cubicBezTo>
                    <a:cubicBezTo>
                      <a:pt x="540" y="219"/>
                      <a:pt x="532" y="243"/>
                      <a:pt x="532" y="243"/>
                    </a:cubicBezTo>
                    <a:cubicBezTo>
                      <a:pt x="536" y="259"/>
                      <a:pt x="534" y="278"/>
                      <a:pt x="544" y="291"/>
                    </a:cubicBezTo>
                    <a:cubicBezTo>
                      <a:pt x="575" y="330"/>
                      <a:pt x="617" y="266"/>
                      <a:pt x="544" y="339"/>
                    </a:cubicBezTo>
                    <a:cubicBezTo>
                      <a:pt x="510" y="440"/>
                      <a:pt x="588" y="514"/>
                      <a:pt x="472" y="591"/>
                    </a:cubicBezTo>
                    <a:cubicBezTo>
                      <a:pt x="468" y="603"/>
                      <a:pt x="454" y="616"/>
                      <a:pt x="460" y="627"/>
                    </a:cubicBezTo>
                    <a:cubicBezTo>
                      <a:pt x="492" y="691"/>
                      <a:pt x="516" y="579"/>
                      <a:pt x="484" y="675"/>
                    </a:cubicBezTo>
                    <a:cubicBezTo>
                      <a:pt x="539" y="758"/>
                      <a:pt x="541" y="720"/>
                      <a:pt x="520" y="783"/>
                    </a:cubicBezTo>
                    <a:cubicBezTo>
                      <a:pt x="554" y="792"/>
                      <a:pt x="607" y="811"/>
                      <a:pt x="640" y="783"/>
                    </a:cubicBezTo>
                    <a:cubicBezTo>
                      <a:pt x="665" y="762"/>
                      <a:pt x="649" y="717"/>
                      <a:pt x="664" y="687"/>
                    </a:cubicBezTo>
                    <a:cubicBezTo>
                      <a:pt x="670" y="674"/>
                      <a:pt x="682" y="664"/>
                      <a:pt x="688" y="651"/>
                    </a:cubicBezTo>
                    <a:cubicBezTo>
                      <a:pt x="698" y="628"/>
                      <a:pt x="712" y="579"/>
                      <a:pt x="712" y="579"/>
                    </a:cubicBezTo>
                    <a:cubicBezTo>
                      <a:pt x="683" y="432"/>
                      <a:pt x="729" y="572"/>
                      <a:pt x="664" y="507"/>
                    </a:cubicBezTo>
                    <a:cubicBezTo>
                      <a:pt x="655" y="498"/>
                      <a:pt x="659" y="482"/>
                      <a:pt x="652" y="471"/>
                    </a:cubicBezTo>
                    <a:cubicBezTo>
                      <a:pt x="635" y="445"/>
                      <a:pt x="609" y="425"/>
                      <a:pt x="592" y="399"/>
                    </a:cubicBezTo>
                    <a:cubicBezTo>
                      <a:pt x="600" y="387"/>
                      <a:pt x="610" y="376"/>
                      <a:pt x="616" y="363"/>
                    </a:cubicBezTo>
                    <a:cubicBezTo>
                      <a:pt x="618" y="358"/>
                      <a:pt x="633" y="288"/>
                      <a:pt x="640" y="279"/>
                    </a:cubicBezTo>
                    <a:cubicBezTo>
                      <a:pt x="649" y="268"/>
                      <a:pt x="664" y="263"/>
                      <a:pt x="676" y="255"/>
                    </a:cubicBezTo>
                    <a:cubicBezTo>
                      <a:pt x="750" y="280"/>
                      <a:pt x="832" y="231"/>
                      <a:pt x="904" y="207"/>
                    </a:cubicBezTo>
                    <a:cubicBezTo>
                      <a:pt x="950" y="192"/>
                      <a:pt x="1000" y="199"/>
                      <a:pt x="1048" y="195"/>
                    </a:cubicBezTo>
                    <a:cubicBezTo>
                      <a:pt x="1027" y="132"/>
                      <a:pt x="984" y="118"/>
                      <a:pt x="928" y="99"/>
                    </a:cubicBezTo>
                    <a:cubicBezTo>
                      <a:pt x="932" y="75"/>
                      <a:pt x="924" y="45"/>
                      <a:pt x="940" y="27"/>
                    </a:cubicBezTo>
                    <a:cubicBezTo>
                      <a:pt x="963" y="0"/>
                      <a:pt x="1052" y="24"/>
                      <a:pt x="1072" y="27"/>
                    </a:cubicBezTo>
                    <a:cubicBezTo>
                      <a:pt x="1120" y="99"/>
                      <a:pt x="1086" y="116"/>
                      <a:pt x="1120" y="183"/>
                    </a:cubicBezTo>
                    <a:cubicBezTo>
                      <a:pt x="1149" y="241"/>
                      <a:pt x="1314" y="236"/>
                      <a:pt x="1372" y="243"/>
                    </a:cubicBezTo>
                    <a:cubicBezTo>
                      <a:pt x="1384" y="255"/>
                      <a:pt x="1400" y="264"/>
                      <a:pt x="1408" y="279"/>
                    </a:cubicBezTo>
                    <a:cubicBezTo>
                      <a:pt x="1420" y="301"/>
                      <a:pt x="1432" y="351"/>
                      <a:pt x="1432" y="351"/>
                    </a:cubicBezTo>
                    <a:cubicBezTo>
                      <a:pt x="1449" y="473"/>
                      <a:pt x="1443" y="452"/>
                      <a:pt x="1564" y="435"/>
                    </a:cubicBezTo>
                    <a:cubicBezTo>
                      <a:pt x="1647" y="380"/>
                      <a:pt x="1609" y="396"/>
                      <a:pt x="1672" y="375"/>
                    </a:cubicBezTo>
                    <a:cubicBezTo>
                      <a:pt x="1760" y="379"/>
                      <a:pt x="1849" y="373"/>
                      <a:pt x="1936" y="387"/>
                    </a:cubicBezTo>
                    <a:cubicBezTo>
                      <a:pt x="1953" y="390"/>
                      <a:pt x="1955" y="421"/>
                      <a:pt x="1972" y="423"/>
                    </a:cubicBezTo>
                    <a:cubicBezTo>
                      <a:pt x="1997" y="426"/>
                      <a:pt x="2044" y="399"/>
                      <a:pt x="2044" y="399"/>
                    </a:cubicBezTo>
                    <a:cubicBezTo>
                      <a:pt x="2072" y="403"/>
                      <a:pt x="2106" y="393"/>
                      <a:pt x="2128" y="411"/>
                    </a:cubicBezTo>
                    <a:cubicBezTo>
                      <a:pt x="2166" y="442"/>
                      <a:pt x="2039" y="447"/>
                      <a:pt x="2116" y="483"/>
                    </a:cubicBezTo>
                    <a:cubicBezTo>
                      <a:pt x="2161" y="504"/>
                      <a:pt x="2260" y="519"/>
                      <a:pt x="2260" y="519"/>
                    </a:cubicBezTo>
                    <a:cubicBezTo>
                      <a:pt x="2296" y="515"/>
                      <a:pt x="2333" y="516"/>
                      <a:pt x="2368" y="507"/>
                    </a:cubicBezTo>
                    <a:cubicBezTo>
                      <a:pt x="2382" y="504"/>
                      <a:pt x="2391" y="489"/>
                      <a:pt x="2404" y="483"/>
                    </a:cubicBezTo>
                    <a:cubicBezTo>
                      <a:pt x="2427" y="473"/>
                      <a:pt x="2452" y="467"/>
                      <a:pt x="2476" y="459"/>
                    </a:cubicBezTo>
                    <a:cubicBezTo>
                      <a:pt x="2490" y="454"/>
                      <a:pt x="2498" y="439"/>
                      <a:pt x="2512" y="435"/>
                    </a:cubicBezTo>
                    <a:cubicBezTo>
                      <a:pt x="2572" y="417"/>
                      <a:pt x="2642" y="414"/>
                      <a:pt x="2704" y="399"/>
                    </a:cubicBezTo>
                    <a:cubicBezTo>
                      <a:pt x="2642" y="378"/>
                      <a:pt x="2577" y="372"/>
                      <a:pt x="2512" y="363"/>
                    </a:cubicBezTo>
                    <a:cubicBezTo>
                      <a:pt x="2626" y="334"/>
                      <a:pt x="2728" y="324"/>
                      <a:pt x="2848" y="315"/>
                    </a:cubicBezTo>
                    <a:cubicBezTo>
                      <a:pt x="2925" y="296"/>
                      <a:pt x="2998" y="328"/>
                      <a:pt x="3076" y="339"/>
                    </a:cubicBezTo>
                    <a:cubicBezTo>
                      <a:pt x="3082" y="341"/>
                      <a:pt x="3150" y="353"/>
                      <a:pt x="3124" y="387"/>
                    </a:cubicBezTo>
                    <a:cubicBezTo>
                      <a:pt x="3114" y="400"/>
                      <a:pt x="3092" y="394"/>
                      <a:pt x="3076" y="399"/>
                    </a:cubicBezTo>
                    <a:cubicBezTo>
                      <a:pt x="3028" y="413"/>
                      <a:pt x="2980" y="423"/>
                      <a:pt x="2932" y="435"/>
                    </a:cubicBezTo>
                    <a:cubicBezTo>
                      <a:pt x="2958" y="514"/>
                      <a:pt x="2922" y="436"/>
                      <a:pt x="2980" y="483"/>
                    </a:cubicBezTo>
                    <a:cubicBezTo>
                      <a:pt x="2991" y="492"/>
                      <a:pt x="2994" y="509"/>
                      <a:pt x="3004" y="519"/>
                    </a:cubicBezTo>
                    <a:cubicBezTo>
                      <a:pt x="3014" y="529"/>
                      <a:pt x="3028" y="535"/>
                      <a:pt x="3040" y="543"/>
                    </a:cubicBezTo>
                    <a:cubicBezTo>
                      <a:pt x="3051" y="559"/>
                      <a:pt x="3073" y="603"/>
                      <a:pt x="3100" y="603"/>
                    </a:cubicBezTo>
                    <a:cubicBezTo>
                      <a:pt x="3143" y="603"/>
                      <a:pt x="3175" y="577"/>
                      <a:pt x="3208" y="555"/>
                    </a:cubicBezTo>
                    <a:cubicBezTo>
                      <a:pt x="3267" y="594"/>
                      <a:pt x="3292" y="591"/>
                      <a:pt x="3364" y="579"/>
                    </a:cubicBezTo>
                    <a:cubicBezTo>
                      <a:pt x="3403" y="605"/>
                      <a:pt x="3433" y="637"/>
                      <a:pt x="3472" y="663"/>
                    </a:cubicBezTo>
                    <a:cubicBezTo>
                      <a:pt x="3488" y="688"/>
                      <a:pt x="3546" y="733"/>
                      <a:pt x="3508" y="771"/>
                    </a:cubicBezTo>
                    <a:cubicBezTo>
                      <a:pt x="3499" y="780"/>
                      <a:pt x="3484" y="779"/>
                      <a:pt x="3472" y="783"/>
                    </a:cubicBezTo>
                    <a:cubicBezTo>
                      <a:pt x="3488" y="831"/>
                      <a:pt x="3504" y="879"/>
                      <a:pt x="3520" y="927"/>
                    </a:cubicBezTo>
                    <a:cubicBezTo>
                      <a:pt x="3524" y="939"/>
                      <a:pt x="3545" y="933"/>
                      <a:pt x="3556" y="939"/>
                    </a:cubicBezTo>
                    <a:cubicBezTo>
                      <a:pt x="3569" y="945"/>
                      <a:pt x="3580" y="955"/>
                      <a:pt x="3592" y="963"/>
                    </a:cubicBezTo>
                    <a:cubicBezTo>
                      <a:pt x="3608" y="959"/>
                      <a:pt x="3627" y="961"/>
                      <a:pt x="3640" y="951"/>
                    </a:cubicBezTo>
                    <a:cubicBezTo>
                      <a:pt x="3650" y="943"/>
                      <a:pt x="3643" y="924"/>
                      <a:pt x="3652" y="915"/>
                    </a:cubicBezTo>
                    <a:cubicBezTo>
                      <a:pt x="3661" y="906"/>
                      <a:pt x="3676" y="907"/>
                      <a:pt x="3688" y="903"/>
                    </a:cubicBezTo>
                    <a:cubicBezTo>
                      <a:pt x="3708" y="907"/>
                      <a:pt x="3734" y="901"/>
                      <a:pt x="3748" y="915"/>
                    </a:cubicBezTo>
                    <a:cubicBezTo>
                      <a:pt x="3766" y="933"/>
                      <a:pt x="3772" y="987"/>
                      <a:pt x="3772" y="987"/>
                    </a:cubicBezTo>
                    <a:cubicBezTo>
                      <a:pt x="3754" y="1041"/>
                      <a:pt x="3740" y="1042"/>
                      <a:pt x="3688" y="1059"/>
                    </a:cubicBezTo>
                    <a:cubicBezTo>
                      <a:pt x="3662" y="1098"/>
                      <a:pt x="3631" y="1122"/>
                      <a:pt x="3616" y="1167"/>
                    </a:cubicBezTo>
                    <a:cubicBezTo>
                      <a:pt x="3628" y="1175"/>
                      <a:pt x="3638" y="1189"/>
                      <a:pt x="3652" y="1191"/>
                    </a:cubicBezTo>
                    <a:cubicBezTo>
                      <a:pt x="3751" y="1208"/>
                      <a:pt x="3621" y="1134"/>
                      <a:pt x="3724" y="1203"/>
                    </a:cubicBezTo>
                    <a:cubicBezTo>
                      <a:pt x="3741" y="1254"/>
                      <a:pt x="3728" y="1318"/>
                      <a:pt x="3676" y="1347"/>
                    </a:cubicBezTo>
                    <a:cubicBezTo>
                      <a:pt x="3654" y="1359"/>
                      <a:pt x="3628" y="1363"/>
                      <a:pt x="3604" y="1371"/>
                    </a:cubicBezTo>
                    <a:cubicBezTo>
                      <a:pt x="3592" y="1375"/>
                      <a:pt x="3568" y="1383"/>
                      <a:pt x="3568" y="1383"/>
                    </a:cubicBezTo>
                    <a:cubicBezTo>
                      <a:pt x="3485" y="1362"/>
                      <a:pt x="3496" y="1357"/>
                      <a:pt x="3400" y="1371"/>
                    </a:cubicBezTo>
                    <a:cubicBezTo>
                      <a:pt x="3396" y="1383"/>
                      <a:pt x="3388" y="1394"/>
                      <a:pt x="3388" y="1407"/>
                    </a:cubicBezTo>
                    <a:cubicBezTo>
                      <a:pt x="3388" y="1420"/>
                      <a:pt x="3401" y="1430"/>
                      <a:pt x="3400" y="1443"/>
                    </a:cubicBezTo>
                    <a:cubicBezTo>
                      <a:pt x="3394" y="1494"/>
                      <a:pt x="3377" y="1513"/>
                      <a:pt x="3352" y="1551"/>
                    </a:cubicBezTo>
                    <a:cubicBezTo>
                      <a:pt x="3364" y="1559"/>
                      <a:pt x="3378" y="1565"/>
                      <a:pt x="3388" y="1575"/>
                    </a:cubicBezTo>
                    <a:cubicBezTo>
                      <a:pt x="3398" y="1585"/>
                      <a:pt x="3400" y="1603"/>
                      <a:pt x="3412" y="1611"/>
                    </a:cubicBezTo>
                    <a:cubicBezTo>
                      <a:pt x="3433" y="1624"/>
                      <a:pt x="3460" y="1627"/>
                      <a:pt x="3484" y="1635"/>
                    </a:cubicBezTo>
                    <a:cubicBezTo>
                      <a:pt x="3496" y="1639"/>
                      <a:pt x="3520" y="1647"/>
                      <a:pt x="3520" y="1647"/>
                    </a:cubicBezTo>
                    <a:cubicBezTo>
                      <a:pt x="3528" y="1659"/>
                      <a:pt x="3533" y="1674"/>
                      <a:pt x="3544" y="1683"/>
                    </a:cubicBezTo>
                    <a:cubicBezTo>
                      <a:pt x="3602" y="1730"/>
                      <a:pt x="3566" y="1652"/>
                      <a:pt x="3592" y="1731"/>
                    </a:cubicBezTo>
                    <a:cubicBezTo>
                      <a:pt x="3575" y="1816"/>
                      <a:pt x="3582" y="1834"/>
                      <a:pt x="3496" y="1863"/>
                    </a:cubicBezTo>
                    <a:cubicBezTo>
                      <a:pt x="3492" y="1875"/>
                      <a:pt x="3493" y="1890"/>
                      <a:pt x="3484" y="1899"/>
                    </a:cubicBezTo>
                    <a:cubicBezTo>
                      <a:pt x="3475" y="1908"/>
                      <a:pt x="3459" y="1905"/>
                      <a:pt x="3448" y="1911"/>
                    </a:cubicBezTo>
                    <a:cubicBezTo>
                      <a:pt x="3435" y="1917"/>
                      <a:pt x="3425" y="1929"/>
                      <a:pt x="3412" y="1935"/>
                    </a:cubicBezTo>
                    <a:cubicBezTo>
                      <a:pt x="3385" y="1947"/>
                      <a:pt x="3354" y="1944"/>
                      <a:pt x="3328" y="1959"/>
                    </a:cubicBezTo>
                    <a:cubicBezTo>
                      <a:pt x="3284" y="1984"/>
                      <a:pt x="3267" y="2011"/>
                      <a:pt x="3220" y="2019"/>
                    </a:cubicBezTo>
                    <a:cubicBezTo>
                      <a:pt x="3148" y="2031"/>
                      <a:pt x="3085" y="2032"/>
                      <a:pt x="3016" y="2055"/>
                    </a:cubicBezTo>
                    <a:cubicBezTo>
                      <a:pt x="2952" y="2151"/>
                      <a:pt x="2997" y="2131"/>
                      <a:pt x="2884" y="2115"/>
                    </a:cubicBezTo>
                    <a:cubicBezTo>
                      <a:pt x="2841" y="2050"/>
                      <a:pt x="2798" y="2035"/>
                      <a:pt x="2728" y="2019"/>
                    </a:cubicBezTo>
                    <a:cubicBezTo>
                      <a:pt x="2696" y="2012"/>
                      <a:pt x="2664" y="2003"/>
                      <a:pt x="2632" y="1995"/>
                    </a:cubicBezTo>
                    <a:cubicBezTo>
                      <a:pt x="2616" y="1991"/>
                      <a:pt x="2584" y="1983"/>
                      <a:pt x="2584" y="1983"/>
                    </a:cubicBezTo>
                    <a:cubicBezTo>
                      <a:pt x="2572" y="1975"/>
                      <a:pt x="2519" y="1934"/>
                      <a:pt x="2500" y="1947"/>
                    </a:cubicBezTo>
                    <a:cubicBezTo>
                      <a:pt x="2489" y="1954"/>
                      <a:pt x="2504" y="1973"/>
                      <a:pt x="2512" y="1983"/>
                    </a:cubicBezTo>
                    <a:cubicBezTo>
                      <a:pt x="2521" y="1994"/>
                      <a:pt x="2536" y="1999"/>
                      <a:pt x="2548" y="2007"/>
                    </a:cubicBezTo>
                    <a:cubicBezTo>
                      <a:pt x="2552" y="2019"/>
                      <a:pt x="2551" y="2034"/>
                      <a:pt x="2560" y="2043"/>
                    </a:cubicBezTo>
                    <a:cubicBezTo>
                      <a:pt x="2580" y="2063"/>
                      <a:pt x="2632" y="2091"/>
                      <a:pt x="2632" y="2091"/>
                    </a:cubicBezTo>
                    <a:cubicBezTo>
                      <a:pt x="2671" y="2150"/>
                      <a:pt x="2656" y="2151"/>
                      <a:pt x="2608" y="2199"/>
                    </a:cubicBezTo>
                    <a:cubicBezTo>
                      <a:pt x="2619" y="2266"/>
                      <a:pt x="2638" y="2326"/>
                      <a:pt x="2656" y="2391"/>
                    </a:cubicBezTo>
                    <a:cubicBezTo>
                      <a:pt x="2661" y="2407"/>
                      <a:pt x="2659" y="2425"/>
                      <a:pt x="2668" y="2439"/>
                    </a:cubicBezTo>
                    <a:cubicBezTo>
                      <a:pt x="2676" y="2451"/>
                      <a:pt x="2692" y="2455"/>
                      <a:pt x="2704" y="2463"/>
                    </a:cubicBezTo>
                    <a:cubicBezTo>
                      <a:pt x="2764" y="2448"/>
                      <a:pt x="2796" y="2439"/>
                      <a:pt x="2860" y="2439"/>
                    </a:cubicBezTo>
                    <a:cubicBezTo>
                      <a:pt x="2856" y="2451"/>
                      <a:pt x="2848" y="2462"/>
                      <a:pt x="2848" y="2475"/>
                    </a:cubicBezTo>
                    <a:cubicBezTo>
                      <a:pt x="2848" y="2488"/>
                      <a:pt x="2866" y="2500"/>
                      <a:pt x="2860" y="2511"/>
                    </a:cubicBezTo>
                    <a:cubicBezTo>
                      <a:pt x="2854" y="2522"/>
                      <a:pt x="2836" y="2521"/>
                      <a:pt x="2824" y="2523"/>
                    </a:cubicBezTo>
                    <a:cubicBezTo>
                      <a:pt x="2796" y="2529"/>
                      <a:pt x="2768" y="2531"/>
                      <a:pt x="2740" y="2535"/>
                    </a:cubicBezTo>
                    <a:cubicBezTo>
                      <a:pt x="2711" y="2545"/>
                      <a:pt x="2691" y="2548"/>
                      <a:pt x="2668" y="2571"/>
                    </a:cubicBezTo>
                    <a:cubicBezTo>
                      <a:pt x="2614" y="2625"/>
                      <a:pt x="2678" y="2596"/>
                      <a:pt x="2608" y="2619"/>
                    </a:cubicBezTo>
                    <a:cubicBezTo>
                      <a:pt x="2576" y="2615"/>
                      <a:pt x="2544" y="2612"/>
                      <a:pt x="2512" y="2607"/>
                    </a:cubicBezTo>
                    <a:cubicBezTo>
                      <a:pt x="2496" y="2604"/>
                      <a:pt x="2480" y="2595"/>
                      <a:pt x="2464" y="2595"/>
                    </a:cubicBezTo>
                    <a:cubicBezTo>
                      <a:pt x="2367" y="2595"/>
                      <a:pt x="2297" y="2651"/>
                      <a:pt x="2212" y="2679"/>
                    </a:cubicBezTo>
                    <a:cubicBezTo>
                      <a:pt x="2178" y="2730"/>
                      <a:pt x="2198" y="2744"/>
                      <a:pt x="2140" y="2763"/>
                    </a:cubicBezTo>
                    <a:cubicBezTo>
                      <a:pt x="2128" y="2759"/>
                      <a:pt x="2115" y="2757"/>
                      <a:pt x="2104" y="2751"/>
                    </a:cubicBezTo>
                    <a:cubicBezTo>
                      <a:pt x="2091" y="2745"/>
                      <a:pt x="2082" y="2729"/>
                      <a:pt x="2068" y="2727"/>
                    </a:cubicBezTo>
                    <a:cubicBezTo>
                      <a:pt x="2052" y="2725"/>
                      <a:pt x="2036" y="2735"/>
                      <a:pt x="2020" y="2739"/>
                    </a:cubicBezTo>
                    <a:cubicBezTo>
                      <a:pt x="2007" y="2759"/>
                      <a:pt x="1989" y="2795"/>
                      <a:pt x="1960" y="2799"/>
                    </a:cubicBezTo>
                    <a:cubicBezTo>
                      <a:pt x="1940" y="2802"/>
                      <a:pt x="1897" y="2778"/>
                      <a:pt x="1876" y="2775"/>
                    </a:cubicBezTo>
                    <a:cubicBezTo>
                      <a:pt x="1840" y="2769"/>
                      <a:pt x="1804" y="2767"/>
                      <a:pt x="1768" y="2763"/>
                    </a:cubicBezTo>
                    <a:cubicBezTo>
                      <a:pt x="1780" y="2755"/>
                      <a:pt x="1791" y="2745"/>
                      <a:pt x="1804" y="2739"/>
                    </a:cubicBezTo>
                    <a:cubicBezTo>
                      <a:pt x="1819" y="2733"/>
                      <a:pt x="1839" y="2737"/>
                      <a:pt x="1852" y="2727"/>
                    </a:cubicBezTo>
                    <a:cubicBezTo>
                      <a:pt x="1862" y="2719"/>
                      <a:pt x="1860" y="2703"/>
                      <a:pt x="1864" y="2691"/>
                    </a:cubicBezTo>
                    <a:cubicBezTo>
                      <a:pt x="1832" y="2595"/>
                      <a:pt x="1880" y="2707"/>
                      <a:pt x="1816" y="2643"/>
                    </a:cubicBezTo>
                    <a:cubicBezTo>
                      <a:pt x="1790" y="2617"/>
                      <a:pt x="1808" y="2568"/>
                      <a:pt x="1792" y="2535"/>
                    </a:cubicBezTo>
                    <a:cubicBezTo>
                      <a:pt x="1786" y="2522"/>
                      <a:pt x="1768" y="2519"/>
                      <a:pt x="1756" y="2511"/>
                    </a:cubicBezTo>
                    <a:cubicBezTo>
                      <a:pt x="1752" y="2491"/>
                      <a:pt x="1757" y="2467"/>
                      <a:pt x="1744" y="2451"/>
                    </a:cubicBezTo>
                    <a:cubicBezTo>
                      <a:pt x="1711" y="2409"/>
                      <a:pt x="1646" y="2394"/>
                      <a:pt x="1600" y="2379"/>
                    </a:cubicBezTo>
                    <a:cubicBezTo>
                      <a:pt x="1588" y="2375"/>
                      <a:pt x="1576" y="2371"/>
                      <a:pt x="1564" y="2367"/>
                    </a:cubicBezTo>
                    <a:cubicBezTo>
                      <a:pt x="1552" y="2363"/>
                      <a:pt x="1528" y="2355"/>
                      <a:pt x="1528" y="2355"/>
                    </a:cubicBezTo>
                    <a:cubicBezTo>
                      <a:pt x="1532" y="2331"/>
                      <a:pt x="1524" y="2301"/>
                      <a:pt x="1540" y="2283"/>
                    </a:cubicBezTo>
                    <a:cubicBezTo>
                      <a:pt x="1557" y="2264"/>
                      <a:pt x="1612" y="2259"/>
                      <a:pt x="1612" y="2259"/>
                    </a:cubicBezTo>
                    <a:cubicBezTo>
                      <a:pt x="1620" y="2247"/>
                      <a:pt x="1625" y="2232"/>
                      <a:pt x="1636" y="2223"/>
                    </a:cubicBezTo>
                    <a:cubicBezTo>
                      <a:pt x="1646" y="2215"/>
                      <a:pt x="1664" y="2221"/>
                      <a:pt x="1672" y="2211"/>
                    </a:cubicBezTo>
                    <a:cubicBezTo>
                      <a:pt x="1682" y="2198"/>
                      <a:pt x="1680" y="2179"/>
                      <a:pt x="1684" y="2163"/>
                    </a:cubicBezTo>
                    <a:cubicBezTo>
                      <a:pt x="1582" y="2095"/>
                      <a:pt x="1740" y="2207"/>
                      <a:pt x="1600" y="2067"/>
                    </a:cubicBezTo>
                    <a:cubicBezTo>
                      <a:pt x="1576" y="2043"/>
                      <a:pt x="1528" y="1995"/>
                      <a:pt x="1528" y="1995"/>
                    </a:cubicBezTo>
                    <a:cubicBezTo>
                      <a:pt x="1532" y="1963"/>
                      <a:pt x="1534" y="1931"/>
                      <a:pt x="1540" y="1899"/>
                    </a:cubicBezTo>
                    <a:cubicBezTo>
                      <a:pt x="1542" y="1887"/>
                      <a:pt x="1552" y="1876"/>
                      <a:pt x="1552" y="1863"/>
                    </a:cubicBezTo>
                    <a:cubicBezTo>
                      <a:pt x="1552" y="1797"/>
                      <a:pt x="1486" y="1840"/>
                      <a:pt x="1516" y="177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069cf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021160" y="3702240"/>
                <a:ext cx="2570040" cy="5126760"/>
              </a:xfrm>
              <a:custGeom>
                <a:avLst/>
                <a:gdLst/>
                <a:ahLst/>
                <a:rect l="l" t="t" r="r" b="b"/>
                <a:pathLst>
                  <a:path w="630" h="1213">
                    <a:moveTo>
                      <a:pt x="108" y="474"/>
                    </a:moveTo>
                    <a:cubicBezTo>
                      <a:pt x="141" y="479"/>
                      <a:pt x="168" y="491"/>
                      <a:pt x="180" y="456"/>
                    </a:cubicBezTo>
                    <a:cubicBezTo>
                      <a:pt x="244" y="465"/>
                      <a:pt x="241" y="471"/>
                      <a:pt x="222" y="528"/>
                    </a:cubicBezTo>
                    <a:cubicBezTo>
                      <a:pt x="224" y="556"/>
                      <a:pt x="216" y="587"/>
                      <a:pt x="228" y="612"/>
                    </a:cubicBezTo>
                    <a:cubicBezTo>
                      <a:pt x="237" y="631"/>
                      <a:pt x="282" y="580"/>
                      <a:pt x="288" y="576"/>
                    </a:cubicBezTo>
                    <a:cubicBezTo>
                      <a:pt x="296" y="578"/>
                      <a:pt x="307" y="576"/>
                      <a:pt x="312" y="582"/>
                    </a:cubicBezTo>
                    <a:cubicBezTo>
                      <a:pt x="318" y="589"/>
                      <a:pt x="339" y="656"/>
                      <a:pt x="348" y="672"/>
                    </a:cubicBezTo>
                    <a:cubicBezTo>
                      <a:pt x="355" y="685"/>
                      <a:pt x="372" y="708"/>
                      <a:pt x="372" y="708"/>
                    </a:cubicBezTo>
                    <a:cubicBezTo>
                      <a:pt x="360" y="766"/>
                      <a:pt x="336" y="783"/>
                      <a:pt x="306" y="828"/>
                    </a:cubicBezTo>
                    <a:cubicBezTo>
                      <a:pt x="321" y="874"/>
                      <a:pt x="322" y="911"/>
                      <a:pt x="306" y="960"/>
                    </a:cubicBezTo>
                    <a:cubicBezTo>
                      <a:pt x="311" y="987"/>
                      <a:pt x="322" y="1065"/>
                      <a:pt x="336" y="1086"/>
                    </a:cubicBezTo>
                    <a:cubicBezTo>
                      <a:pt x="349" y="1105"/>
                      <a:pt x="361" y="1120"/>
                      <a:pt x="372" y="1140"/>
                    </a:cubicBezTo>
                    <a:cubicBezTo>
                      <a:pt x="379" y="1153"/>
                      <a:pt x="388" y="1164"/>
                      <a:pt x="396" y="1176"/>
                    </a:cubicBezTo>
                    <a:cubicBezTo>
                      <a:pt x="403" y="1187"/>
                      <a:pt x="432" y="1188"/>
                      <a:pt x="432" y="1188"/>
                    </a:cubicBezTo>
                    <a:cubicBezTo>
                      <a:pt x="448" y="1213"/>
                      <a:pt x="437" y="1206"/>
                      <a:pt x="468" y="1206"/>
                    </a:cubicBezTo>
                    <a:cubicBezTo>
                      <a:pt x="465" y="1197"/>
                      <a:pt x="455" y="1179"/>
                      <a:pt x="468" y="1170"/>
                    </a:cubicBezTo>
                    <a:cubicBezTo>
                      <a:pt x="478" y="1163"/>
                      <a:pt x="504" y="1158"/>
                      <a:pt x="504" y="1158"/>
                    </a:cubicBezTo>
                    <a:cubicBezTo>
                      <a:pt x="516" y="1121"/>
                      <a:pt x="499" y="1155"/>
                      <a:pt x="546" y="1134"/>
                    </a:cubicBezTo>
                    <a:cubicBezTo>
                      <a:pt x="554" y="1131"/>
                      <a:pt x="558" y="1122"/>
                      <a:pt x="564" y="1116"/>
                    </a:cubicBezTo>
                    <a:cubicBezTo>
                      <a:pt x="577" y="1078"/>
                      <a:pt x="572" y="1048"/>
                      <a:pt x="600" y="1020"/>
                    </a:cubicBezTo>
                    <a:cubicBezTo>
                      <a:pt x="630" y="931"/>
                      <a:pt x="600" y="871"/>
                      <a:pt x="576" y="798"/>
                    </a:cubicBezTo>
                    <a:cubicBezTo>
                      <a:pt x="587" y="765"/>
                      <a:pt x="596" y="724"/>
                      <a:pt x="582" y="690"/>
                    </a:cubicBezTo>
                    <a:cubicBezTo>
                      <a:pt x="576" y="677"/>
                      <a:pt x="558" y="654"/>
                      <a:pt x="558" y="654"/>
                    </a:cubicBezTo>
                    <a:cubicBezTo>
                      <a:pt x="552" y="623"/>
                      <a:pt x="546" y="596"/>
                      <a:pt x="528" y="570"/>
                    </a:cubicBezTo>
                    <a:cubicBezTo>
                      <a:pt x="535" y="510"/>
                      <a:pt x="537" y="524"/>
                      <a:pt x="552" y="480"/>
                    </a:cubicBezTo>
                    <a:cubicBezTo>
                      <a:pt x="547" y="417"/>
                      <a:pt x="541" y="419"/>
                      <a:pt x="552" y="366"/>
                    </a:cubicBezTo>
                    <a:cubicBezTo>
                      <a:pt x="556" y="346"/>
                      <a:pt x="582" y="312"/>
                      <a:pt x="582" y="312"/>
                    </a:cubicBezTo>
                    <a:cubicBezTo>
                      <a:pt x="586" y="263"/>
                      <a:pt x="582" y="246"/>
                      <a:pt x="606" y="210"/>
                    </a:cubicBezTo>
                    <a:cubicBezTo>
                      <a:pt x="604" y="192"/>
                      <a:pt x="607" y="173"/>
                      <a:pt x="600" y="156"/>
                    </a:cubicBezTo>
                    <a:cubicBezTo>
                      <a:pt x="598" y="150"/>
                      <a:pt x="586" y="154"/>
                      <a:pt x="582" y="150"/>
                    </a:cubicBezTo>
                    <a:cubicBezTo>
                      <a:pt x="578" y="146"/>
                      <a:pt x="580" y="136"/>
                      <a:pt x="576" y="132"/>
                    </a:cubicBezTo>
                    <a:cubicBezTo>
                      <a:pt x="555" y="111"/>
                      <a:pt x="545" y="110"/>
                      <a:pt x="522" y="102"/>
                    </a:cubicBezTo>
                    <a:cubicBezTo>
                      <a:pt x="509" y="89"/>
                      <a:pt x="500" y="83"/>
                      <a:pt x="492" y="66"/>
                    </a:cubicBezTo>
                    <a:cubicBezTo>
                      <a:pt x="489" y="60"/>
                      <a:pt x="490" y="52"/>
                      <a:pt x="486" y="48"/>
                    </a:cubicBezTo>
                    <a:cubicBezTo>
                      <a:pt x="475" y="37"/>
                      <a:pt x="458" y="37"/>
                      <a:pt x="444" y="30"/>
                    </a:cubicBezTo>
                    <a:cubicBezTo>
                      <a:pt x="365" y="40"/>
                      <a:pt x="332" y="11"/>
                      <a:pt x="258" y="0"/>
                    </a:cubicBezTo>
                    <a:cubicBezTo>
                      <a:pt x="252" y="2"/>
                      <a:pt x="246" y="3"/>
                      <a:pt x="240" y="6"/>
                    </a:cubicBezTo>
                    <a:cubicBezTo>
                      <a:pt x="234" y="9"/>
                      <a:pt x="222" y="18"/>
                      <a:pt x="222" y="18"/>
                    </a:cubicBezTo>
                    <a:cubicBezTo>
                      <a:pt x="228" y="22"/>
                      <a:pt x="237" y="23"/>
                      <a:pt x="240" y="30"/>
                    </a:cubicBezTo>
                    <a:cubicBezTo>
                      <a:pt x="242" y="36"/>
                      <a:pt x="236" y="42"/>
                      <a:pt x="234" y="48"/>
                    </a:cubicBezTo>
                    <a:cubicBezTo>
                      <a:pt x="232" y="56"/>
                      <a:pt x="233" y="66"/>
                      <a:pt x="228" y="72"/>
                    </a:cubicBezTo>
                    <a:cubicBezTo>
                      <a:pt x="224" y="77"/>
                      <a:pt x="216" y="75"/>
                      <a:pt x="210" y="78"/>
                    </a:cubicBezTo>
                    <a:cubicBezTo>
                      <a:pt x="204" y="81"/>
                      <a:pt x="198" y="86"/>
                      <a:pt x="192" y="90"/>
                    </a:cubicBezTo>
                    <a:cubicBezTo>
                      <a:pt x="181" y="124"/>
                      <a:pt x="194" y="92"/>
                      <a:pt x="168" y="126"/>
                    </a:cubicBezTo>
                    <a:cubicBezTo>
                      <a:pt x="159" y="137"/>
                      <a:pt x="144" y="162"/>
                      <a:pt x="144" y="162"/>
                    </a:cubicBezTo>
                    <a:cubicBezTo>
                      <a:pt x="164" y="169"/>
                      <a:pt x="178" y="179"/>
                      <a:pt x="198" y="186"/>
                    </a:cubicBezTo>
                    <a:cubicBezTo>
                      <a:pt x="251" y="266"/>
                      <a:pt x="151" y="289"/>
                      <a:pt x="96" y="300"/>
                    </a:cubicBezTo>
                    <a:cubicBezTo>
                      <a:pt x="59" y="291"/>
                      <a:pt x="48" y="276"/>
                      <a:pt x="18" y="306"/>
                    </a:cubicBezTo>
                    <a:cubicBezTo>
                      <a:pt x="16" y="326"/>
                      <a:pt x="16" y="346"/>
                      <a:pt x="12" y="366"/>
                    </a:cubicBezTo>
                    <a:cubicBezTo>
                      <a:pt x="10" y="378"/>
                      <a:pt x="0" y="402"/>
                      <a:pt x="0" y="402"/>
                    </a:cubicBezTo>
                    <a:cubicBezTo>
                      <a:pt x="8" y="414"/>
                      <a:pt x="10" y="433"/>
                      <a:pt x="24" y="438"/>
                    </a:cubicBezTo>
                    <a:cubicBezTo>
                      <a:pt x="36" y="442"/>
                      <a:pt x="60" y="450"/>
                      <a:pt x="60" y="450"/>
                    </a:cubicBezTo>
                    <a:cubicBezTo>
                      <a:pt x="66" y="456"/>
                      <a:pt x="71" y="464"/>
                      <a:pt x="78" y="468"/>
                    </a:cubicBezTo>
                    <a:cubicBezTo>
                      <a:pt x="136" y="500"/>
                      <a:pt x="119" y="485"/>
                      <a:pt x="108" y="474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69c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6035040" y="1605240"/>
              <a:ext cx="739080" cy="216000"/>
            </a:xfrm>
            <a:custGeom>
              <a:avLst/>
              <a:gdLst/>
              <a:ahLst/>
              <a:rect l="l" t="t" r="r" b="b"/>
              <a:pathLst>
                <a:path w="370" h="108">
                  <a:moveTo>
                    <a:pt x="76" y="25"/>
                  </a:moveTo>
                  <a:cubicBezTo>
                    <a:pt x="56" y="27"/>
                    <a:pt x="35" y="25"/>
                    <a:pt x="16" y="31"/>
                  </a:cubicBezTo>
                  <a:cubicBezTo>
                    <a:pt x="3" y="35"/>
                    <a:pt x="0" y="59"/>
                    <a:pt x="10" y="67"/>
                  </a:cubicBezTo>
                  <a:cubicBezTo>
                    <a:pt x="16" y="72"/>
                    <a:pt x="26" y="71"/>
                    <a:pt x="34" y="73"/>
                  </a:cubicBezTo>
                  <a:cubicBezTo>
                    <a:pt x="68" y="71"/>
                    <a:pt x="102" y="72"/>
                    <a:pt x="136" y="67"/>
                  </a:cubicBezTo>
                  <a:cubicBezTo>
                    <a:pt x="193" y="58"/>
                    <a:pt x="110" y="44"/>
                    <a:pt x="178" y="61"/>
                  </a:cubicBezTo>
                  <a:cubicBezTo>
                    <a:pt x="194" y="86"/>
                    <a:pt x="210" y="90"/>
                    <a:pt x="238" y="97"/>
                  </a:cubicBezTo>
                  <a:cubicBezTo>
                    <a:pt x="322" y="91"/>
                    <a:pt x="338" y="108"/>
                    <a:pt x="370" y="43"/>
                  </a:cubicBezTo>
                  <a:cubicBezTo>
                    <a:pt x="356" y="1"/>
                    <a:pt x="370" y="11"/>
                    <a:pt x="340" y="1"/>
                  </a:cubicBezTo>
                  <a:cubicBezTo>
                    <a:pt x="261" y="8"/>
                    <a:pt x="295" y="0"/>
                    <a:pt x="238" y="19"/>
                  </a:cubicBezTo>
                  <a:cubicBezTo>
                    <a:pt x="226" y="23"/>
                    <a:pt x="202" y="31"/>
                    <a:pt x="202" y="31"/>
                  </a:cubicBezTo>
                  <a:cubicBezTo>
                    <a:pt x="177" y="29"/>
                    <a:pt x="108" y="14"/>
                    <a:pt x="76" y="25"/>
                  </a:cubicBez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069cf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69c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547640" y="1270080"/>
            <a:ext cx="6409080" cy="91692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8 DE LAS 10 UNIDADES DE CASA II DE GURI SALEN DE SERVICIO  Y SE  LIMITA LA GENERACIÓN DEL RESTO DE LAS UNIDADES SEGÚN VOLÚMEN DE APOR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19280" y="2965320"/>
            <a:ext cx="6408720" cy="137376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RACIONAMIENTO ENTRE UN 35% Y UN 45% DE LA DEMANDA ELÉCTRICA 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40360" y="2205000"/>
            <a:ext cx="129528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19280" y="5114880"/>
            <a:ext cx="6408720" cy="9471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IMPACTOS SOCIO ECONÓMICOS POLÍTICOS Y OPERAT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11640" y="4334040"/>
            <a:ext cx="1368360" cy="79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guel Lara</cp:lastModifiedBy>
  <cp:lastPrinted>2002-05-28T18:45:34Z</cp:lastPrinted>
  <dcterms:modified xsi:type="dcterms:W3CDTF">2002-07-03T14:55:43Z</dcterms:modified>
  <cp:revision>345</cp:revision>
  <dc:subject/>
  <dc:title>Información general del proyecto</dc:title>
</cp:coreProperties>
</file>